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200" y="9466920"/>
            <a:ext cx="290052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7E7F81D2-4A5E-4269-BBA0-7FC80D0FDC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5320" y="752040"/>
            <a:ext cx="495144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5189400" y="2835360"/>
            <a:ext cx="304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981000" y="38268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900000" y="76032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900000" y="76032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898560" y="75888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900000" y="760320"/>
            <a:ext cx="49784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69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36560" y="167616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869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36560" y="3938040"/>
            <a:ext cx="252288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5980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53160" y="393804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3160" y="1676160"/>
            <a:ext cx="38239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938040"/>
            <a:ext cx="783612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5980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160"/>
            <a:ext cx="7836120" cy="43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3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3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Evolutsioonis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eh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kuidas ühiskond toimib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ja miks inimesed just nii mõtleva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0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Blackmore tähelepaneku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861480"/>
            <a:ext cx="7848720" cy="62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uuline kõne levib kaugemale kui kehamärg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itatsioonioskus aitab meemidel arene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itatsioonioskus areneb ise geneetilis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enide-meemide koosevolutsioon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app 1: imiteerimine. Imiteeri paremat tööriistavalmistajat: geneetiline edu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app 2: Imiteeri paremat imiteerija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tapp 3: selektsioon parema imitaatoriga paaritumisek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truism meemide teenistus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truismi geneetiline efek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truismi ühiskondlik efek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truistlikud inimesed paremad meemilevitaj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süühika enne ja nüü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6640" y="631440"/>
            <a:ext cx="7848720" cy="62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nne: psüühika kui liigi evolutsiooni vahe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aegu: psüühika kui ühiskonna evolutsiooni vahe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volutsiooni suured hüpp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172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rukamad olendid 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tud lihtsamate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98320" y="4187880"/>
            <a:ext cx="2091240" cy="355680"/>
            <a:chOff x="598320" y="4187880"/>
            <a:chExt cx="2091240" cy="355680"/>
          </a:xfrm>
        </p:grpSpPr>
        <p:sp>
          <p:nvSpPr>
            <p:cNvPr id="114" name=""/>
            <p:cNvSpPr/>
            <p:nvPr/>
          </p:nvSpPr>
          <p:spPr>
            <a:xfrm>
              <a:off x="598320" y="4187880"/>
              <a:ext cx="1571760" cy="2649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8320" y="4187880"/>
              <a:ext cx="2091240" cy="355680"/>
              <a:chOff x="598320" y="4187880"/>
              <a:chExt cx="2091240" cy="355680"/>
            </a:xfrm>
          </p:grpSpPr>
          <p:sp>
            <p:nvSpPr>
              <p:cNvPr id="116" name=""/>
              <p:cNvSpPr/>
              <p:nvPr/>
            </p:nvSpPr>
            <p:spPr>
              <a:xfrm>
                <a:off x="598320" y="4187880"/>
                <a:ext cx="1571760" cy="26496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160" y="4187880"/>
                <a:ext cx="196740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Lihtpaljunej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3273480" y="4187880"/>
            <a:ext cx="1652400" cy="355680"/>
            <a:chOff x="3273480" y="4187880"/>
            <a:chExt cx="1652400" cy="355680"/>
          </a:xfrm>
        </p:grpSpPr>
        <p:sp>
          <p:nvSpPr>
            <p:cNvPr id="119" name=""/>
            <p:cNvSpPr/>
            <p:nvPr/>
          </p:nvSpPr>
          <p:spPr>
            <a:xfrm>
              <a:off x="3273480" y="4187880"/>
              <a:ext cx="1247760" cy="2649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273480" y="4187880"/>
              <a:ext cx="1652400" cy="355680"/>
              <a:chOff x="3273480" y="4187880"/>
              <a:chExt cx="1652400" cy="355680"/>
            </a:xfrm>
          </p:grpSpPr>
          <p:sp>
            <p:nvSpPr>
              <p:cNvPr id="121" name=""/>
              <p:cNvSpPr/>
              <p:nvPr/>
            </p:nvSpPr>
            <p:spPr>
              <a:xfrm>
                <a:off x="3273480" y="4187880"/>
                <a:ext cx="1247760" cy="26496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400560" y="4187880"/>
                <a:ext cx="152532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Ainuraks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5665680" y="4164120"/>
            <a:ext cx="1661760" cy="355680"/>
            <a:chOff x="5665680" y="4164120"/>
            <a:chExt cx="1661760" cy="355680"/>
          </a:xfrm>
        </p:grpSpPr>
        <p:sp>
          <p:nvSpPr>
            <p:cNvPr id="124" name=""/>
            <p:cNvSpPr/>
            <p:nvPr/>
          </p:nvSpPr>
          <p:spPr>
            <a:xfrm>
              <a:off x="5665680" y="4164120"/>
              <a:ext cx="1238400" cy="2649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665680" y="4164120"/>
              <a:ext cx="1661760" cy="355680"/>
              <a:chOff x="5665680" y="4164120"/>
              <a:chExt cx="1661760" cy="355680"/>
            </a:xfrm>
          </p:grpSpPr>
          <p:sp>
            <p:nvSpPr>
              <p:cNvPr id="126" name=""/>
              <p:cNvSpPr/>
              <p:nvPr/>
            </p:nvSpPr>
            <p:spPr>
              <a:xfrm>
                <a:off x="5665680" y="4164120"/>
                <a:ext cx="1238400" cy="26496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83760" y="4164120"/>
                <a:ext cx="154368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Hulkraks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674800" y="4299120"/>
            <a:ext cx="354240" cy="1440"/>
          </a:xfrm>
          <a:prstGeom prst="line">
            <a:avLst/>
          </a:prstGeom>
          <a:ln w="936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30640" y="4324320"/>
            <a:ext cx="354240" cy="1440"/>
          </a:xfrm>
          <a:prstGeom prst="line">
            <a:avLst/>
          </a:prstGeom>
          <a:ln w="936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26360" y="4297320"/>
            <a:ext cx="353880" cy="1800"/>
          </a:xfrm>
          <a:prstGeom prst="line">
            <a:avLst/>
          </a:prstGeom>
          <a:ln w="936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88320" y="4114800"/>
            <a:ext cx="235800" cy="385920"/>
            <a:chOff x="7888320" y="4114800"/>
            <a:chExt cx="235800" cy="385920"/>
          </a:xfrm>
        </p:grpSpPr>
        <p:sp>
          <p:nvSpPr>
            <p:cNvPr id="132" name=""/>
            <p:cNvSpPr/>
            <p:nvPr/>
          </p:nvSpPr>
          <p:spPr>
            <a:xfrm>
              <a:off x="7888320" y="4114800"/>
              <a:ext cx="228600" cy="385920"/>
            </a:xfrm>
            <a:custGeom>
              <a:avLst/>
              <a:gdLst>
                <a:gd name="textAreaLeft" fmla="*/ 360 w 228600"/>
                <a:gd name="textAreaRight" fmla="*/ 228240 w 228600"/>
                <a:gd name="textAreaTop" fmla="*/ 360 h 385920"/>
                <a:gd name="textAreaBottom" fmla="*/ 385560 h 385920"/>
              </a:gdLst>
              <a:ahLst/>
              <a:rect l="textAreaLeft" t="textAreaTop" r="textAreaRight" b="textAreaBottom"/>
              <a:pathLst>
                <a:path w="21600" h="36442">
                  <a:moveTo>
                    <a:pt x="150" y="0"/>
                  </a:moveTo>
                  <a:arcTo wR="150" hR="150" stAng="16200000" swAng="-5400000"/>
                  <a:lnTo>
                    <a:pt x="0" y="36292"/>
                  </a:lnTo>
                  <a:arcTo wR="150" hR="150" stAng="10800000" swAng="-5400000"/>
                  <a:lnTo>
                    <a:pt x="21450" y="36442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7888320" y="4114800"/>
              <a:ext cx="235800" cy="385920"/>
              <a:chOff x="7888320" y="4114800"/>
              <a:chExt cx="235800" cy="385920"/>
            </a:xfrm>
          </p:grpSpPr>
          <p:sp>
            <p:nvSpPr>
              <p:cNvPr id="134" name=""/>
              <p:cNvSpPr/>
              <p:nvPr/>
            </p:nvSpPr>
            <p:spPr>
              <a:xfrm>
                <a:off x="7888320" y="4114800"/>
                <a:ext cx="228600" cy="385920"/>
              </a:xfrm>
              <a:custGeom>
                <a:avLst/>
                <a:gdLst>
                  <a:gd name="textAreaLeft" fmla="*/ 360 w 228600"/>
                  <a:gd name="textAreaRight" fmla="*/ 228240 w 228600"/>
                  <a:gd name="textAreaTop" fmla="*/ 360 h 385920"/>
                  <a:gd name="textAreaBottom" fmla="*/ 385560 h 385920"/>
                </a:gdLst>
                <a:ahLst/>
                <a:rect l="textAreaLeft" t="textAreaTop" r="textAreaRight" b="textAreaBottom"/>
                <a:pathLst>
                  <a:path w="21600" h="36442">
                    <a:moveTo>
                      <a:pt x="150" y="0"/>
                    </a:moveTo>
                    <a:arcTo wR="150" hR="150" stAng="16200000" swAng="-5400000"/>
                    <a:lnTo>
                      <a:pt x="0" y="36292"/>
                    </a:lnTo>
                    <a:arcTo wR="150" hR="150" stAng="10800000" swAng="-5400000"/>
                    <a:lnTo>
                      <a:pt x="21450" y="36442"/>
                    </a:lnTo>
                    <a:arcTo wR="150" hR="150" stAng="5400000" swAng="-5400000"/>
                    <a:lnTo>
                      <a:pt x="21600" y="150"/>
                    </a:lnTo>
                    <a:arcTo wR="150" hR="15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94080" y="4114800"/>
                <a:ext cx="230040" cy="355680"/>
              </a:xfrm>
              <a:custGeom>
                <a:avLst/>
                <a:gdLst>
                  <a:gd name="textAreaLeft" fmla="*/ 360 w 230040"/>
                  <a:gd name="textAreaRight" fmla="*/ 229680 w 230040"/>
                  <a:gd name="textAreaTop" fmla="*/ 360 h 355680"/>
                  <a:gd name="textAreaBottom" fmla="*/ 355320 h 355680"/>
                </a:gdLst>
                <a:ahLst/>
                <a:rect l="textAreaLeft" t="textAreaTop" r="textAreaRight" b="textAreaBottom"/>
                <a:pathLst>
                  <a:path w="21600" h="33379">
                    <a:moveTo>
                      <a:pt x="150" y="0"/>
                    </a:moveTo>
                    <a:arcTo wR="150" hR="150" stAng="16200000" swAng="-5400000"/>
                    <a:lnTo>
                      <a:pt x="0" y="33229"/>
                    </a:lnTo>
                    <a:arcTo wR="150" hR="150" stAng="10800000" swAng="-5400000"/>
                    <a:lnTo>
                      <a:pt x="21450" y="33379"/>
                    </a:lnTo>
                    <a:arcTo wR="150" hR="150" stAng="5400000" swAng="-5400000"/>
                    <a:lnTo>
                      <a:pt x="21600" y="150"/>
                    </a:lnTo>
                    <a:arcTo wR="150" hR="15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366840" y="3481560"/>
            <a:ext cx="1346040" cy="355680"/>
            <a:chOff x="366840" y="3481560"/>
            <a:chExt cx="1346040" cy="355680"/>
          </a:xfrm>
        </p:grpSpPr>
        <p:sp>
          <p:nvSpPr>
            <p:cNvPr id="137" name=""/>
            <p:cNvSpPr/>
            <p:nvPr/>
          </p:nvSpPr>
          <p:spPr>
            <a:xfrm>
              <a:off x="366840" y="3481560"/>
              <a:ext cx="866520" cy="2649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66840" y="3481560"/>
              <a:ext cx="1346040" cy="355680"/>
              <a:chOff x="366840" y="3481560"/>
              <a:chExt cx="1346040" cy="355680"/>
            </a:xfrm>
          </p:grpSpPr>
          <p:sp>
            <p:nvSpPr>
              <p:cNvPr id="139" name=""/>
              <p:cNvSpPr/>
              <p:nvPr/>
            </p:nvSpPr>
            <p:spPr>
              <a:xfrm>
                <a:off x="366840" y="3481560"/>
                <a:ext cx="866520" cy="26496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9240" y="3481560"/>
                <a:ext cx="122364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peptiidid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5238720" y="3127320"/>
            <a:ext cx="920160" cy="355680"/>
            <a:chOff x="5238720" y="3127320"/>
            <a:chExt cx="920160" cy="355680"/>
          </a:xfrm>
        </p:grpSpPr>
        <p:sp>
          <p:nvSpPr>
            <p:cNvPr id="142" name=""/>
            <p:cNvSpPr/>
            <p:nvPr/>
          </p:nvSpPr>
          <p:spPr>
            <a:xfrm>
              <a:off x="5238720" y="3127320"/>
              <a:ext cx="762120" cy="26532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5238720" y="3127320"/>
              <a:ext cx="920160" cy="355680"/>
              <a:chOff x="5238720" y="3127320"/>
              <a:chExt cx="920160" cy="355680"/>
            </a:xfrm>
          </p:grpSpPr>
          <p:sp>
            <p:nvSpPr>
              <p:cNvPr id="144" name=""/>
              <p:cNvSpPr/>
              <p:nvPr/>
            </p:nvSpPr>
            <p:spPr>
              <a:xfrm>
                <a:off x="5238720" y="3127320"/>
                <a:ext cx="762120" cy="26532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325480" y="3127320"/>
                <a:ext cx="83340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taim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5654520" y="2846520"/>
            <a:ext cx="1004040" cy="355680"/>
            <a:chOff x="5654520" y="2846520"/>
            <a:chExt cx="1004040" cy="355680"/>
          </a:xfrm>
        </p:grpSpPr>
        <p:sp>
          <p:nvSpPr>
            <p:cNvPr id="147" name=""/>
            <p:cNvSpPr/>
            <p:nvPr/>
          </p:nvSpPr>
          <p:spPr>
            <a:xfrm>
              <a:off x="5654520" y="2846520"/>
              <a:ext cx="800280" cy="2649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5654520" y="2846520"/>
              <a:ext cx="1004040" cy="355680"/>
              <a:chOff x="5654520" y="2846520"/>
              <a:chExt cx="1004040" cy="355680"/>
            </a:xfrm>
          </p:grpSpPr>
          <p:sp>
            <p:nvSpPr>
              <p:cNvPr id="149" name=""/>
              <p:cNvSpPr/>
              <p:nvPr/>
            </p:nvSpPr>
            <p:spPr>
              <a:xfrm>
                <a:off x="5654520" y="2846520"/>
                <a:ext cx="800280" cy="26496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41280" y="2846520"/>
                <a:ext cx="91728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loom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5875200" y="2552760"/>
            <a:ext cx="1681200" cy="355680"/>
            <a:chOff x="5875200" y="2552760"/>
            <a:chExt cx="1681200" cy="355680"/>
          </a:xfrm>
        </p:grpSpPr>
        <p:sp>
          <p:nvSpPr>
            <p:cNvPr id="152" name=""/>
            <p:cNvSpPr/>
            <p:nvPr/>
          </p:nvSpPr>
          <p:spPr>
            <a:xfrm>
              <a:off x="5875200" y="2552760"/>
              <a:ext cx="1362240" cy="2649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5875200" y="2552760"/>
              <a:ext cx="1681200" cy="355680"/>
              <a:chOff x="5875200" y="2552760"/>
              <a:chExt cx="1681200" cy="355680"/>
            </a:xfrm>
          </p:grpSpPr>
          <p:sp>
            <p:nvSpPr>
              <p:cNvPr id="154" name=""/>
              <p:cNvSpPr/>
              <p:nvPr/>
            </p:nvSpPr>
            <p:spPr>
              <a:xfrm>
                <a:off x="5875200" y="2552760"/>
                <a:ext cx="1362240" cy="26496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27840" y="2552760"/>
                <a:ext cx="152856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arjaloom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6326280" y="2260440"/>
            <a:ext cx="1210320" cy="355680"/>
            <a:chOff x="6326280" y="2260440"/>
            <a:chExt cx="1210320" cy="355680"/>
          </a:xfrm>
        </p:grpSpPr>
        <p:sp>
          <p:nvSpPr>
            <p:cNvPr id="157" name=""/>
            <p:cNvSpPr/>
            <p:nvPr/>
          </p:nvSpPr>
          <p:spPr>
            <a:xfrm>
              <a:off x="6326280" y="2260440"/>
              <a:ext cx="981000" cy="26532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326280" y="2260440"/>
              <a:ext cx="1210320" cy="355680"/>
              <a:chOff x="6326280" y="2260440"/>
              <a:chExt cx="1210320" cy="355680"/>
            </a:xfrm>
          </p:grpSpPr>
          <p:sp>
            <p:nvSpPr>
              <p:cNvPr id="159" name=""/>
              <p:cNvSpPr/>
              <p:nvPr/>
            </p:nvSpPr>
            <p:spPr>
              <a:xfrm>
                <a:off x="6326280" y="2260440"/>
                <a:ext cx="981000" cy="26532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31760" y="2260440"/>
                <a:ext cx="110484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inimes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4213080" y="2112840"/>
            <a:ext cx="1332000" cy="806400"/>
          </a:xfrm>
          <a:prstGeom prst="line">
            <a:avLst/>
          </a:prstGeom>
          <a:ln w="936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140360" y="1393920"/>
            <a:ext cx="1780920" cy="236880"/>
            <a:chOff x="4140360" y="1393920"/>
            <a:chExt cx="1780920" cy="236880"/>
          </a:xfrm>
        </p:grpSpPr>
        <p:sp>
          <p:nvSpPr>
            <p:cNvPr id="163" name=""/>
            <p:cNvSpPr/>
            <p:nvPr/>
          </p:nvSpPr>
          <p:spPr>
            <a:xfrm>
              <a:off x="4140360" y="1393920"/>
              <a:ext cx="1780920" cy="226800"/>
            </a:xfrm>
            <a:prstGeom prst="roundRect">
              <a:avLst>
                <a:gd name="adj" fmla="val 7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140360" y="1393920"/>
              <a:ext cx="1780920" cy="236880"/>
              <a:chOff x="4140360" y="1393920"/>
              <a:chExt cx="1780920" cy="236880"/>
            </a:xfrm>
          </p:grpSpPr>
          <p:sp>
            <p:nvSpPr>
              <p:cNvPr id="165" name=""/>
              <p:cNvSpPr/>
              <p:nvPr/>
            </p:nvSpPr>
            <p:spPr>
              <a:xfrm>
                <a:off x="4140360" y="1393920"/>
                <a:ext cx="1780920" cy="22680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72480" y="1393920"/>
                <a:ext cx="1437120" cy="23688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kommunikatsio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5240160" y="3127320"/>
            <a:ext cx="920160" cy="355680"/>
            <a:chOff x="5240160" y="3127320"/>
            <a:chExt cx="920160" cy="355680"/>
          </a:xfrm>
        </p:grpSpPr>
        <p:sp>
          <p:nvSpPr>
            <p:cNvPr id="168" name=""/>
            <p:cNvSpPr/>
            <p:nvPr/>
          </p:nvSpPr>
          <p:spPr>
            <a:xfrm>
              <a:off x="5240160" y="3127320"/>
              <a:ext cx="762120" cy="26532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240160" y="3127320"/>
              <a:ext cx="920160" cy="355680"/>
              <a:chOff x="5240160" y="3127320"/>
              <a:chExt cx="920160" cy="355680"/>
            </a:xfrm>
          </p:grpSpPr>
          <p:sp>
            <p:nvSpPr>
              <p:cNvPr id="170" name=""/>
              <p:cNvSpPr/>
              <p:nvPr/>
            </p:nvSpPr>
            <p:spPr>
              <a:xfrm>
                <a:off x="5240160" y="3127320"/>
                <a:ext cx="762120" cy="26532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26920" y="3127320"/>
                <a:ext cx="83340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taim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3102120" y="1808280"/>
            <a:ext cx="1352520" cy="236880"/>
            <a:chOff x="3102120" y="1808280"/>
            <a:chExt cx="1352520" cy="236880"/>
          </a:xfrm>
        </p:grpSpPr>
        <p:sp>
          <p:nvSpPr>
            <p:cNvPr id="173" name=""/>
            <p:cNvSpPr/>
            <p:nvPr/>
          </p:nvSpPr>
          <p:spPr>
            <a:xfrm>
              <a:off x="3102120" y="1808280"/>
              <a:ext cx="1352520" cy="226800"/>
            </a:xfrm>
            <a:prstGeom prst="roundRect">
              <a:avLst>
                <a:gd name="adj" fmla="val 7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102120" y="1808280"/>
              <a:ext cx="1352520" cy="236880"/>
              <a:chOff x="3102120" y="1808280"/>
              <a:chExt cx="1352520" cy="236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102120" y="1808280"/>
                <a:ext cx="1352520" cy="22680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02200" y="1808280"/>
                <a:ext cx="1074240" cy="23688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närvisüste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4933800" y="954000"/>
            <a:ext cx="2633040" cy="236880"/>
            <a:chOff x="4933800" y="954000"/>
            <a:chExt cx="2633040" cy="236880"/>
          </a:xfrm>
        </p:grpSpPr>
        <p:sp>
          <p:nvSpPr>
            <p:cNvPr id="178" name=""/>
            <p:cNvSpPr/>
            <p:nvPr/>
          </p:nvSpPr>
          <p:spPr>
            <a:xfrm>
              <a:off x="4933800" y="954000"/>
              <a:ext cx="1571760" cy="227160"/>
            </a:xfrm>
            <a:prstGeom prst="roundRect">
              <a:avLst>
                <a:gd name="adj" fmla="val 7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933800" y="954000"/>
              <a:ext cx="2633040" cy="236880"/>
              <a:chOff x="4933800" y="954000"/>
              <a:chExt cx="2633040" cy="236880"/>
            </a:xfrm>
          </p:grpSpPr>
          <p:sp>
            <p:nvSpPr>
              <p:cNvPr id="180" name=""/>
              <p:cNvSpPr/>
              <p:nvPr/>
            </p:nvSpPr>
            <p:spPr>
              <a:xfrm>
                <a:off x="4933800" y="954000"/>
                <a:ext cx="1571760" cy="22716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34680" y="954000"/>
                <a:ext cx="2432160" cy="236880"/>
              </a:xfrm>
              <a:prstGeom prst="roundRect">
                <a:avLst>
                  <a:gd name="adj" fmla="val 7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Abstraktsioonid ja mälupildi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4884840" y="1623960"/>
            <a:ext cx="965160" cy="988920"/>
          </a:xfrm>
          <a:prstGeom prst="line">
            <a:avLst/>
          </a:prstGeom>
          <a:ln w="936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85000" y="1185840"/>
            <a:ext cx="561960" cy="976320"/>
          </a:xfrm>
          <a:prstGeom prst="line">
            <a:avLst/>
          </a:prstGeom>
          <a:ln w="936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33800" y="1514520"/>
            <a:ext cx="2332080" cy="2332080"/>
          </a:xfrm>
          <a:prstGeom prst="ellipse">
            <a:avLst/>
          </a:prstGeom>
          <a:noFill/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84600" y="2602080"/>
            <a:ext cx="2149200" cy="1233360"/>
          </a:xfrm>
          <a:prstGeom prst="ellipse">
            <a:avLst/>
          </a:prstGeom>
          <a:noFill/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4440" y="2857680"/>
            <a:ext cx="2308320" cy="990360"/>
          </a:xfrm>
          <a:prstGeom prst="ellipse">
            <a:avLst/>
          </a:prstGeom>
          <a:noFill/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41440" y="2994120"/>
            <a:ext cx="1076400" cy="355680"/>
            <a:chOff x="1441440" y="2994120"/>
            <a:chExt cx="1076400" cy="355680"/>
          </a:xfrm>
        </p:grpSpPr>
        <p:sp>
          <p:nvSpPr>
            <p:cNvPr id="188" name=""/>
            <p:cNvSpPr/>
            <p:nvPr/>
          </p:nvSpPr>
          <p:spPr>
            <a:xfrm>
              <a:off x="1441440" y="2994120"/>
              <a:ext cx="866880" cy="2649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1441440" y="2994120"/>
              <a:ext cx="1076400" cy="355680"/>
              <a:chOff x="1441440" y="2994120"/>
              <a:chExt cx="1076400" cy="355680"/>
            </a:xfrm>
          </p:grpSpPr>
          <p:sp>
            <p:nvSpPr>
              <p:cNvPr id="190" name=""/>
              <p:cNvSpPr/>
              <p:nvPr/>
            </p:nvSpPr>
            <p:spPr>
              <a:xfrm>
                <a:off x="1441440" y="2994120"/>
                <a:ext cx="866880" cy="26496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31800" y="2994120"/>
                <a:ext cx="98604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viirus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647640" y="3213000"/>
            <a:ext cx="1435320" cy="355680"/>
            <a:chOff x="647640" y="3213000"/>
            <a:chExt cx="1435320" cy="355680"/>
          </a:xfrm>
        </p:grpSpPr>
        <p:sp>
          <p:nvSpPr>
            <p:cNvPr id="193" name=""/>
            <p:cNvSpPr/>
            <p:nvPr/>
          </p:nvSpPr>
          <p:spPr>
            <a:xfrm>
              <a:off x="647640" y="3213000"/>
              <a:ext cx="866880" cy="26532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47640" y="3213000"/>
              <a:ext cx="1435320" cy="355680"/>
              <a:chOff x="647640" y="3213000"/>
              <a:chExt cx="1435320" cy="355680"/>
            </a:xfrm>
          </p:grpSpPr>
          <p:sp>
            <p:nvSpPr>
              <p:cNvPr id="195" name=""/>
              <p:cNvSpPr/>
              <p:nvPr/>
            </p:nvSpPr>
            <p:spPr>
              <a:xfrm>
                <a:off x="647640" y="3213000"/>
                <a:ext cx="866880" cy="26532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96240" y="3213000"/>
                <a:ext cx="138672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RNA/D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3030480" y="3262320"/>
            <a:ext cx="2010240" cy="355680"/>
            <a:chOff x="3030480" y="3262320"/>
            <a:chExt cx="2010240" cy="355680"/>
          </a:xfrm>
        </p:grpSpPr>
        <p:sp>
          <p:nvSpPr>
            <p:cNvPr id="198" name=""/>
            <p:cNvSpPr/>
            <p:nvPr/>
          </p:nvSpPr>
          <p:spPr>
            <a:xfrm>
              <a:off x="3030480" y="3262320"/>
              <a:ext cx="866880" cy="2649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3030480" y="3262320"/>
              <a:ext cx="2010240" cy="355680"/>
              <a:chOff x="3030480" y="3262320"/>
              <a:chExt cx="2010240" cy="355680"/>
            </a:xfrm>
          </p:grpSpPr>
          <p:sp>
            <p:nvSpPr>
              <p:cNvPr id="200" name=""/>
              <p:cNvSpPr/>
              <p:nvPr/>
            </p:nvSpPr>
            <p:spPr>
              <a:xfrm>
                <a:off x="3030480" y="3262320"/>
                <a:ext cx="866880" cy="26496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90680" y="3262320"/>
                <a:ext cx="185004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Archaebacteri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3616200" y="2957400"/>
            <a:ext cx="1411200" cy="355680"/>
            <a:chOff x="3616200" y="2957400"/>
            <a:chExt cx="1411200" cy="355680"/>
          </a:xfrm>
        </p:grpSpPr>
        <p:sp>
          <p:nvSpPr>
            <p:cNvPr id="203" name=""/>
            <p:cNvSpPr/>
            <p:nvPr/>
          </p:nvSpPr>
          <p:spPr>
            <a:xfrm>
              <a:off x="3616200" y="2957400"/>
              <a:ext cx="866880" cy="26532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616200" y="2957400"/>
              <a:ext cx="1411200" cy="355680"/>
              <a:chOff x="3616200" y="2957400"/>
              <a:chExt cx="1411200" cy="355680"/>
            </a:xfrm>
          </p:grpSpPr>
          <p:sp>
            <p:nvSpPr>
              <p:cNvPr id="205" name=""/>
              <p:cNvSpPr/>
              <p:nvPr/>
            </p:nvSpPr>
            <p:spPr>
              <a:xfrm>
                <a:off x="3616200" y="2957400"/>
                <a:ext cx="866880" cy="26532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19880" y="2957400"/>
                <a:ext cx="1307520" cy="355680"/>
              </a:xfrm>
              <a:prstGeom prst="roundRect">
                <a:avLst>
                  <a:gd name="adj" fmla="val 60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Eubacteri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0480" y="4554360"/>
            <a:ext cx="3241800" cy="1697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92200" y="4832280"/>
            <a:ext cx="1428840" cy="1276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443560" y="4610160"/>
            <a:ext cx="327672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istuse teke: suhtlemine ja mälu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ne mõtlemine tekkis suhtlemisest ja keelest, mitte vastupidi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ne mõtlemine saab tekkida vaid karjaloomad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bstraktne mõtlemine on evolutsiooni hiljutine saavutus ja seetõttu väga kehvasti arenenu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si organismis (sh aju sees) areneb olemasolevast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pisoodiline mälu tajutöötluses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e struktuur mälumisega tegelevatest ajuosades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973240" y="5165640"/>
            <a:ext cx="3329280" cy="1527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se “mina” ja mõistus on haj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istusel ja “minal” ei ole keskust: kõik on mööda erinevaid ajustruktuure laial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saa olla “lihtsat” intellekti: mida keerukam intellekt, seda rohkem erinevaid kange ja hoobasid ja osi seal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sinas peab olem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inimesi, kellel on mit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aldiseisvat “mina”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na” võib olla aju erinevat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hhanismide (aju kui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na) esindaja (president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iste olevustega suhtlemisek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8800" y="2470320"/>
            <a:ext cx="3014640" cy="3562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59000" y="5292720"/>
            <a:ext cx="2599920" cy="651240"/>
          </a:xfrm>
          <a:prstGeom prst="roundRect">
            <a:avLst>
              <a:gd name="adj" fmla="val 29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imese aju k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omaette ühisk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05320" y="5029200"/>
            <a:ext cx="1752480" cy="1295280"/>
            <a:chOff x="3505320" y="5029200"/>
            <a:chExt cx="1752480" cy="1295280"/>
          </a:xfrm>
        </p:grpSpPr>
        <p:sp>
          <p:nvSpPr>
            <p:cNvPr id="218" name=""/>
            <p:cNvSpPr/>
            <p:nvPr/>
          </p:nvSpPr>
          <p:spPr>
            <a:xfrm>
              <a:off x="35053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811680" y="5029200"/>
              <a:ext cx="1217520" cy="1143000"/>
              <a:chOff x="3811680" y="5029200"/>
              <a:chExt cx="1217520" cy="1143000"/>
            </a:xfrm>
          </p:grpSpPr>
          <p:sp>
            <p:nvSpPr>
              <p:cNvPr id="220" name=""/>
              <p:cNvSpPr/>
              <p:nvPr/>
            </p:nvSpPr>
            <p:spPr>
              <a:xfrm flipV="1">
                <a:off x="4599000" y="5349600"/>
                <a:ext cx="120600" cy="145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97440" y="54608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4119480" y="5703480"/>
                <a:ext cx="16848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4805280" y="5029200"/>
                <a:ext cx="223920" cy="457200"/>
                <a:chOff x="4805280" y="5029200"/>
                <a:chExt cx="223920" cy="4572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805280" y="5029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869000" y="5164200"/>
                  <a:ext cx="25200" cy="5220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941720" y="5164200"/>
                  <a:ext cx="24120" cy="5220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856040" y="53560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348080" y="5257800"/>
                <a:ext cx="223920" cy="457200"/>
                <a:chOff x="4348080" y="5257800"/>
                <a:chExt cx="223920" cy="4572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348080" y="5257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411800" y="5392800"/>
                  <a:ext cx="25200" cy="5220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84520" y="5392800"/>
                  <a:ext cx="24120" cy="5220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398840" y="5584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811680" y="5100480"/>
                <a:ext cx="223920" cy="457200"/>
                <a:chOff x="3811680" y="5100480"/>
                <a:chExt cx="223920" cy="4572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3811680" y="51004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876840" y="52354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49560" y="523548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862440" y="54277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890880" y="5715000"/>
                <a:ext cx="223920" cy="457200"/>
                <a:chOff x="3890880" y="5715000"/>
                <a:chExt cx="223920" cy="4572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3890880" y="57150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954600" y="5850000"/>
                  <a:ext cx="25200" cy="5220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027320" y="5850000"/>
                  <a:ext cx="24120" cy="5220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41640" y="60418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35053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572000" y="5486400"/>
            <a:ext cx="914400" cy="914400"/>
          </a:xfrm>
          <a:custGeom>
            <a:avLst/>
            <a:gdLst/>
            <a:ahLst/>
            <a:rect l="l" t="t" r="r" b="b"/>
            <a:pathLst>
              <a:path w="2541" h="2541">
                <a:moveTo>
                  <a:pt x="1905" y="0"/>
                </a:moveTo>
                <a:lnTo>
                  <a:pt x="2540" y="1270"/>
                </a:lnTo>
                <a:lnTo>
                  <a:pt x="1270" y="1270"/>
                </a:lnTo>
                <a:lnTo>
                  <a:pt x="1270" y="1905"/>
                </a:lnTo>
                <a:lnTo>
                  <a:pt x="635" y="1905"/>
                </a:lnTo>
                <a:lnTo>
                  <a:pt x="1270" y="2540"/>
                </a:lnTo>
                <a:lnTo>
                  <a:pt x="0" y="2540"/>
                </a:lnTo>
                <a:lnTo>
                  <a:pt x="0" y="1905"/>
                </a:lnTo>
              </a:path>
            </a:pathLst>
          </a:custGeom>
          <a:noFill/>
          <a:ln w="54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75040" y="5548320"/>
            <a:ext cx="479520" cy="392040"/>
          </a:xfrm>
          <a:custGeom>
            <a:avLst/>
            <a:gdLst/>
            <a:ahLst/>
            <a:rect l="l" t="t" r="r" b="b"/>
            <a:pathLst>
              <a:path w="1332" h="1088">
                <a:moveTo>
                  <a:pt x="217" y="573"/>
                </a:moveTo>
                <a:cubicBezTo>
                  <a:pt x="507" y="645"/>
                  <a:pt x="1331" y="1087"/>
                  <a:pt x="1159" y="428"/>
                </a:cubicBezTo>
                <a:cubicBezTo>
                  <a:pt x="1048" y="0"/>
                  <a:pt x="295" y="99"/>
                  <a:pt x="0" y="428"/>
                </a:cubicBezTo>
                <a:lnTo>
                  <a:pt x="217" y="500"/>
                </a:lnTo>
                <a:lnTo>
                  <a:pt x="217" y="573"/>
                </a:lnTo>
              </a:path>
            </a:pathLst>
          </a:custGeom>
          <a:solidFill>
            <a:srgbClr val="0000ff"/>
          </a:solidFill>
          <a:ln w="367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õistus on geneetika jaoks arengupid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õistusega olendite karjas (ühiskonnas) asusid levima meemi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idel on teised huvid, kui geenid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id ja abstraktne mõtlemine on tekitanud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oraal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rvishoi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tsiaalab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e kõik on blokeerinud (vähemalt pidurdanud)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etilise arengu enam-mõistuslikemate olendite suuna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049640" y="3224160"/>
            <a:ext cx="1300320" cy="160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likkus on loomalikk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“Peaasi, et kasvaks inimene”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imlikud” on: sotsiaalsus, suhtlemine, soojad väärtused,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imlikud” ei ole: külm kalkuleerimine, geniaalne matemaatika, jõhker börsihai,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õik “inimlik” on olemas k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õrgematel  karjaloomad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eline inimlikkus – see, mid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istes loomades ei ole - on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ülm ja võõristav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03840" y="3448080"/>
            <a:ext cx="2906640" cy="287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on loomu poolest ühiskonna or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imesed on geneetiliselt ehitatud  kommunikeerum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d on geneetiliselt ehitatud olema jutu abil juhitava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neetilised normi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meetilised normi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rekond, sõbrad, tuttavad, kolleeg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ne jne seovad meid sunnivahenditega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motsioonid on üks peamisi hoobasi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d tahab inimesest põhiliselt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2520" indent="-270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eks üha rohkem töö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2520" indent="-270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leks ettearvatav ja normeerit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25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da ei huvita üksiku inimese heaolu rohkem, kui inimest tema üksiku raku heaolu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221520" y="1758960"/>
            <a:ext cx="2828880" cy="4006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0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nst kui ahelakõli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6640" y="1012680"/>
            <a:ext cx="7848720" cy="57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stitaju kasutab samu ajumehhanisme, mida karjale allumin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hiskond on (juba?) omaette loo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d koosneb inimestest nagu loom rakkudes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d suudab tohutult rohkem, kui iga üksik inime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nad konkureerivad: nad neelavad endasse teiste ühiskondade inimesi, nagu loom hammustab teise rakk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kude vahel liiguvad keemilised ja elektrisignaalid: inimeste vahel liiguvad meemi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nnad on ühiskonna närvivõrgu sõlm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nad evolutsioneeruvad, ja kiire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459160" y="4432320"/>
            <a:ext cx="4757760" cy="218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volutsiooni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4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igi evolutsioon: geen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ltuuri evolutsioon: meem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rvutitarkvara evolutsio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na evolutsioon: meemid + infrastruktuu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hisintellekt meie ümbe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540560" cy="648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hisintellekt on (vist) juba olemas: ühiskond kui suur loom paistab olema intelligent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s sellise tehisintellekti jõudu suurendab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jurakkude (inimeste) nutikas organiseerit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jurakkude (inimeste) hea kommunikatsioonivõim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nal ei olegi tarvis väga tarku inimes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gem on vaja kuulekaid ja suhtlemisaltis inimes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7840"/>
                <a:tab algn="l" pos="5945040"/>
                <a:tab algn="l" pos="6402240"/>
                <a:tab algn="l" pos="6859440"/>
                <a:tab algn="l" pos="7316640"/>
                <a:tab algn="l" pos="7773840"/>
                <a:tab algn="l" pos="8231040"/>
                <a:tab algn="l" pos="8688240"/>
                <a:tab algn="l" pos="914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hiskonna komponen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6640" y="1014480"/>
            <a:ext cx="7848720" cy="57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imesed kui rak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emid inimeste pead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frastruktuur: teed, külad, raamatud, telefon,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mmunikatsioonivahendid on peamine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ühiskonnataseme määraj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t ühiskondade arengut: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õnevõimeta kari. Meemid liiguvad matkimise te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õnevõimega nomaadid. Abstraktsed meemid, levivad kuuldeulatus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aiksed maaviljelejad. Meemid levivad grupis kiirel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ri: meemide säilumine, levik väljaspool kõn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rükikunst: meemide massileviku võim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adio ja televisioon: uuel tasemel meemid (episoodilise mälu analoogid) kiire massilevikug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ssiline telef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rne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 ?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653000" y="4494240"/>
            <a:ext cx="3114720" cy="192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upermõistus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014480"/>
            <a:ext cx="7848720" cy="57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 me suudaks luua inimesega võrreldava intellektiga arvuti, siis oleks ta – paratamatult – meist tohutult intelligentse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ie loodud intelligentne arvuti suudaks ennast (vähemalt alguses) kiiresti täiustada: leiutades endale täiustusi, mida meie pole osanu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uidas me oskaks sellist arvutit teha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 ei peagi oskama. Ta võib ise tekkid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ipea, kui oleme loonud soodsa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vupinnase: väga palju võimsa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setegutsevaid arvuteid ja nende  sidevõrgu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959520" y="2960640"/>
            <a:ext cx="1762200" cy="17240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973920" y="4775040"/>
            <a:ext cx="1770120" cy="161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-25452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981080" y="3352680"/>
            <a:ext cx="449280" cy="525600"/>
            <a:chOff x="1981080" y="3352680"/>
            <a:chExt cx="449280" cy="525600"/>
          </a:xfrm>
        </p:grpSpPr>
        <p:sp>
          <p:nvSpPr>
            <p:cNvPr id="274" name=""/>
            <p:cNvSpPr/>
            <p:nvPr/>
          </p:nvSpPr>
          <p:spPr>
            <a:xfrm>
              <a:off x="1981080" y="3352680"/>
              <a:ext cx="449280" cy="525600"/>
            </a:xfrm>
            <a:custGeom>
              <a:avLst/>
              <a:gdLst/>
              <a:ahLst/>
              <a:rect l="l" t="t" r="r" b="b"/>
              <a:pathLst>
                <a:path w="1249" h="1461">
                  <a:moveTo>
                    <a:pt x="624" y="0"/>
                  </a:moveTo>
                  <a:cubicBezTo>
                    <a:pt x="978" y="0"/>
                    <a:pt x="1248" y="316"/>
                    <a:pt x="1248" y="730"/>
                  </a:cubicBezTo>
                  <a:cubicBezTo>
                    <a:pt x="1248" y="1144"/>
                    <a:pt x="978" y="1460"/>
                    <a:pt x="624" y="1460"/>
                  </a:cubicBezTo>
                  <a:cubicBezTo>
                    <a:pt x="270" y="1460"/>
                    <a:pt x="0" y="1144"/>
                    <a:pt x="0" y="730"/>
                  </a:cubicBezTo>
                  <a:cubicBezTo>
                    <a:pt x="0" y="316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8" y="0"/>
                    <a:pt x="135" y="33"/>
                    <a:pt x="135" y="83"/>
                  </a:cubicBezTo>
                  <a:cubicBezTo>
                    <a:pt x="135" y="126"/>
                    <a:pt x="108" y="161"/>
                    <a:pt x="66" y="161"/>
                  </a:cubicBezTo>
                  <a:cubicBezTo>
                    <a:pt x="27" y="161"/>
                    <a:pt x="0" y="126"/>
                    <a:pt x="0" y="83"/>
                  </a:cubicBezTo>
                  <a:cubicBezTo>
                    <a:pt x="0" y="33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5576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6" y="0"/>
                    <a:pt x="134" y="33"/>
                    <a:pt x="134" y="83"/>
                  </a:cubicBezTo>
                  <a:cubicBezTo>
                    <a:pt x="134" y="126"/>
                    <a:pt x="106" y="161"/>
                    <a:pt x="65" y="161"/>
                  </a:cubicBezTo>
                  <a:cubicBezTo>
                    <a:pt x="26" y="161"/>
                    <a:pt x="0" y="126"/>
                    <a:pt x="0" y="83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84400" y="3727440"/>
              <a:ext cx="249120" cy="50760"/>
            </a:xfrm>
            <a:custGeom>
              <a:avLst/>
              <a:gdLst/>
              <a:ahLst/>
              <a:rect l="l" t="t" r="r" b="b"/>
              <a:pathLst>
                <a:path w="694" h="142">
                  <a:moveTo>
                    <a:pt x="0" y="0"/>
                  </a:moveTo>
                  <a:cubicBezTo>
                    <a:pt x="219" y="141"/>
                    <a:pt x="474" y="141"/>
                    <a:pt x="6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572000" y="1371600"/>
            <a:ext cx="449280" cy="525600"/>
            <a:chOff x="4572000" y="1371600"/>
            <a:chExt cx="449280" cy="525600"/>
          </a:xfrm>
        </p:grpSpPr>
        <p:sp>
          <p:nvSpPr>
            <p:cNvPr id="279" name=""/>
            <p:cNvSpPr/>
            <p:nvPr/>
          </p:nvSpPr>
          <p:spPr>
            <a:xfrm>
              <a:off x="4572000" y="1371600"/>
              <a:ext cx="449280" cy="525600"/>
            </a:xfrm>
            <a:custGeom>
              <a:avLst/>
              <a:gdLst/>
              <a:ahLst/>
              <a:rect l="l" t="t" r="r" b="b"/>
              <a:pathLst>
                <a:path w="1249" h="1461">
                  <a:moveTo>
                    <a:pt x="624" y="0"/>
                  </a:moveTo>
                  <a:cubicBezTo>
                    <a:pt x="978" y="0"/>
                    <a:pt x="1248" y="316"/>
                    <a:pt x="1248" y="730"/>
                  </a:cubicBezTo>
                  <a:cubicBezTo>
                    <a:pt x="1248" y="1144"/>
                    <a:pt x="978" y="1460"/>
                    <a:pt x="624" y="1460"/>
                  </a:cubicBezTo>
                  <a:cubicBezTo>
                    <a:pt x="270" y="1460"/>
                    <a:pt x="0" y="1144"/>
                    <a:pt x="0" y="730"/>
                  </a:cubicBezTo>
                  <a:cubicBezTo>
                    <a:pt x="0" y="316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7" y="0"/>
                    <a:pt x="134" y="33"/>
                    <a:pt x="134" y="79"/>
                  </a:cubicBezTo>
                  <a:cubicBezTo>
                    <a:pt x="134" y="126"/>
                    <a:pt x="107" y="161"/>
                    <a:pt x="65" y="161"/>
                  </a:cubicBezTo>
                  <a:cubicBezTo>
                    <a:pt x="26" y="161"/>
                    <a:pt x="0" y="126"/>
                    <a:pt x="0" y="79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43440" y="1528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5" y="0"/>
                  </a:moveTo>
                  <a:cubicBezTo>
                    <a:pt x="107" y="0"/>
                    <a:pt x="135" y="33"/>
                    <a:pt x="135" y="79"/>
                  </a:cubicBezTo>
                  <a:cubicBezTo>
                    <a:pt x="135" y="126"/>
                    <a:pt x="107" y="161"/>
                    <a:pt x="65" y="161"/>
                  </a:cubicBezTo>
                  <a:cubicBezTo>
                    <a:pt x="25" y="161"/>
                    <a:pt x="0" y="126"/>
                    <a:pt x="0" y="79"/>
                  </a:cubicBezTo>
                  <a:cubicBezTo>
                    <a:pt x="0" y="33"/>
                    <a:pt x="25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75320" y="1746360"/>
              <a:ext cx="249120" cy="50760"/>
            </a:xfrm>
            <a:custGeom>
              <a:avLst/>
              <a:gdLst/>
              <a:ahLst/>
              <a:rect l="l" t="t" r="r" b="b"/>
              <a:pathLst>
                <a:path w="691" h="141">
                  <a:moveTo>
                    <a:pt x="0" y="0"/>
                  </a:moveTo>
                  <a:cubicBezTo>
                    <a:pt x="218" y="140"/>
                    <a:pt x="471" y="140"/>
                    <a:pt x="69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 flipV="1">
            <a:off x="2438280" y="1892160"/>
            <a:ext cx="2057400" cy="154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590920" y="2730240"/>
            <a:ext cx="220968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81080" y="3352680"/>
            <a:ext cx="449280" cy="525600"/>
            <a:chOff x="1981080" y="3352680"/>
            <a:chExt cx="449280" cy="525600"/>
          </a:xfrm>
        </p:grpSpPr>
        <p:sp>
          <p:nvSpPr>
            <p:cNvPr id="295" name=""/>
            <p:cNvSpPr/>
            <p:nvPr/>
          </p:nvSpPr>
          <p:spPr>
            <a:xfrm>
              <a:off x="1981080" y="3352680"/>
              <a:ext cx="449280" cy="525600"/>
            </a:xfrm>
            <a:custGeom>
              <a:avLst/>
              <a:gdLst/>
              <a:ahLst/>
              <a:rect l="l" t="t" r="r" b="b"/>
              <a:pathLst>
                <a:path w="1249" h="1461">
                  <a:moveTo>
                    <a:pt x="624" y="0"/>
                  </a:moveTo>
                  <a:cubicBezTo>
                    <a:pt x="978" y="0"/>
                    <a:pt x="1248" y="316"/>
                    <a:pt x="1248" y="730"/>
                  </a:cubicBezTo>
                  <a:cubicBezTo>
                    <a:pt x="1248" y="1144"/>
                    <a:pt x="978" y="1460"/>
                    <a:pt x="624" y="1460"/>
                  </a:cubicBezTo>
                  <a:cubicBezTo>
                    <a:pt x="270" y="1460"/>
                    <a:pt x="0" y="1144"/>
                    <a:pt x="0" y="730"/>
                  </a:cubicBezTo>
                  <a:cubicBezTo>
                    <a:pt x="0" y="316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8" y="0"/>
                    <a:pt x="135" y="33"/>
                    <a:pt x="135" y="83"/>
                  </a:cubicBezTo>
                  <a:cubicBezTo>
                    <a:pt x="135" y="126"/>
                    <a:pt x="108" y="161"/>
                    <a:pt x="66" y="161"/>
                  </a:cubicBezTo>
                  <a:cubicBezTo>
                    <a:pt x="27" y="161"/>
                    <a:pt x="0" y="126"/>
                    <a:pt x="0" y="83"/>
                  </a:cubicBezTo>
                  <a:cubicBezTo>
                    <a:pt x="0" y="33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5576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6" y="0"/>
                    <a:pt x="134" y="33"/>
                    <a:pt x="134" y="83"/>
                  </a:cubicBezTo>
                  <a:cubicBezTo>
                    <a:pt x="134" y="126"/>
                    <a:pt x="106" y="161"/>
                    <a:pt x="65" y="161"/>
                  </a:cubicBezTo>
                  <a:cubicBezTo>
                    <a:pt x="26" y="161"/>
                    <a:pt x="0" y="126"/>
                    <a:pt x="0" y="83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84400" y="3727440"/>
              <a:ext cx="249120" cy="50760"/>
            </a:xfrm>
            <a:custGeom>
              <a:avLst/>
              <a:gdLst/>
              <a:ahLst/>
              <a:rect l="l" t="t" r="r" b="b"/>
              <a:pathLst>
                <a:path w="694" h="142">
                  <a:moveTo>
                    <a:pt x="0" y="0"/>
                  </a:moveTo>
                  <a:cubicBezTo>
                    <a:pt x="219" y="141"/>
                    <a:pt x="474" y="141"/>
                    <a:pt x="6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572000" y="1371600"/>
            <a:ext cx="449280" cy="525600"/>
            <a:chOff x="4572000" y="1371600"/>
            <a:chExt cx="449280" cy="525600"/>
          </a:xfrm>
        </p:grpSpPr>
        <p:sp>
          <p:nvSpPr>
            <p:cNvPr id="300" name=""/>
            <p:cNvSpPr/>
            <p:nvPr/>
          </p:nvSpPr>
          <p:spPr>
            <a:xfrm>
              <a:off x="4572000" y="1371600"/>
              <a:ext cx="449280" cy="525600"/>
            </a:xfrm>
            <a:custGeom>
              <a:avLst/>
              <a:gdLst/>
              <a:ahLst/>
              <a:rect l="l" t="t" r="r" b="b"/>
              <a:pathLst>
                <a:path w="1249" h="1461">
                  <a:moveTo>
                    <a:pt x="624" y="0"/>
                  </a:moveTo>
                  <a:cubicBezTo>
                    <a:pt x="978" y="0"/>
                    <a:pt x="1248" y="316"/>
                    <a:pt x="1248" y="730"/>
                  </a:cubicBezTo>
                  <a:cubicBezTo>
                    <a:pt x="1248" y="1144"/>
                    <a:pt x="978" y="1460"/>
                    <a:pt x="624" y="1460"/>
                  </a:cubicBezTo>
                  <a:cubicBezTo>
                    <a:pt x="270" y="1460"/>
                    <a:pt x="0" y="1144"/>
                    <a:pt x="0" y="730"/>
                  </a:cubicBezTo>
                  <a:cubicBezTo>
                    <a:pt x="0" y="316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7" y="0"/>
                    <a:pt x="134" y="33"/>
                    <a:pt x="134" y="79"/>
                  </a:cubicBezTo>
                  <a:cubicBezTo>
                    <a:pt x="134" y="126"/>
                    <a:pt x="107" y="161"/>
                    <a:pt x="65" y="161"/>
                  </a:cubicBezTo>
                  <a:cubicBezTo>
                    <a:pt x="26" y="161"/>
                    <a:pt x="0" y="126"/>
                    <a:pt x="0" y="79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43440" y="1528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5" y="0"/>
                  </a:moveTo>
                  <a:cubicBezTo>
                    <a:pt x="107" y="0"/>
                    <a:pt x="135" y="33"/>
                    <a:pt x="135" y="79"/>
                  </a:cubicBezTo>
                  <a:cubicBezTo>
                    <a:pt x="135" y="126"/>
                    <a:pt x="107" y="161"/>
                    <a:pt x="65" y="161"/>
                  </a:cubicBezTo>
                  <a:cubicBezTo>
                    <a:pt x="25" y="161"/>
                    <a:pt x="0" y="126"/>
                    <a:pt x="0" y="79"/>
                  </a:cubicBezTo>
                  <a:cubicBezTo>
                    <a:pt x="0" y="33"/>
                    <a:pt x="25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75320" y="1746360"/>
              <a:ext cx="249120" cy="50760"/>
            </a:xfrm>
            <a:custGeom>
              <a:avLst/>
              <a:gdLst/>
              <a:ahLst/>
              <a:rect l="l" t="t" r="r" b="b"/>
              <a:pathLst>
                <a:path w="691" h="141">
                  <a:moveTo>
                    <a:pt x="0" y="0"/>
                  </a:moveTo>
                  <a:cubicBezTo>
                    <a:pt x="218" y="140"/>
                    <a:pt x="471" y="140"/>
                    <a:pt x="69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876920" y="2362320"/>
            <a:ext cx="449280" cy="525240"/>
            <a:chOff x="4876920" y="2362320"/>
            <a:chExt cx="449280" cy="525240"/>
          </a:xfrm>
        </p:grpSpPr>
        <p:sp>
          <p:nvSpPr>
            <p:cNvPr id="305" name=""/>
            <p:cNvSpPr/>
            <p:nvPr/>
          </p:nvSpPr>
          <p:spPr>
            <a:xfrm>
              <a:off x="4876920" y="2362320"/>
              <a:ext cx="449280" cy="525240"/>
            </a:xfrm>
            <a:custGeom>
              <a:avLst/>
              <a:gdLst/>
              <a:ahLst/>
              <a:rect l="l" t="t" r="r" b="b"/>
              <a:pathLst>
                <a:path w="1249" h="1460">
                  <a:moveTo>
                    <a:pt x="624" y="0"/>
                  </a:moveTo>
                  <a:cubicBezTo>
                    <a:pt x="978" y="0"/>
                    <a:pt x="1248" y="315"/>
                    <a:pt x="1248" y="730"/>
                  </a:cubicBezTo>
                  <a:cubicBezTo>
                    <a:pt x="1248" y="1143"/>
                    <a:pt x="978" y="1459"/>
                    <a:pt x="624" y="1459"/>
                  </a:cubicBezTo>
                  <a:cubicBezTo>
                    <a:pt x="270" y="1459"/>
                    <a:pt x="0" y="1143"/>
                    <a:pt x="0" y="730"/>
                  </a:cubicBezTo>
                  <a:cubicBezTo>
                    <a:pt x="0" y="315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0688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8" y="0"/>
                    <a:pt x="135" y="33"/>
                    <a:pt x="135" y="83"/>
                  </a:cubicBezTo>
                  <a:cubicBezTo>
                    <a:pt x="135" y="126"/>
                    <a:pt x="108" y="161"/>
                    <a:pt x="66" y="161"/>
                  </a:cubicBezTo>
                  <a:cubicBezTo>
                    <a:pt x="27" y="161"/>
                    <a:pt x="0" y="126"/>
                    <a:pt x="0" y="83"/>
                  </a:cubicBezTo>
                  <a:cubicBezTo>
                    <a:pt x="0" y="33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51600" y="2519280"/>
              <a:ext cx="4896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6" y="0"/>
                    <a:pt x="134" y="33"/>
                    <a:pt x="134" y="83"/>
                  </a:cubicBezTo>
                  <a:cubicBezTo>
                    <a:pt x="134" y="126"/>
                    <a:pt x="106" y="161"/>
                    <a:pt x="65" y="161"/>
                  </a:cubicBezTo>
                  <a:cubicBezTo>
                    <a:pt x="26" y="161"/>
                    <a:pt x="0" y="126"/>
                    <a:pt x="0" y="83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79880" y="2736720"/>
              <a:ext cx="249480" cy="50760"/>
            </a:xfrm>
            <a:custGeom>
              <a:avLst/>
              <a:gdLst/>
              <a:ahLst/>
              <a:rect l="l" t="t" r="r" b="b"/>
              <a:pathLst>
                <a:path w="691" h="142">
                  <a:moveTo>
                    <a:pt x="0" y="0"/>
                  </a:moveTo>
                  <a:cubicBezTo>
                    <a:pt x="219" y="141"/>
                    <a:pt x="471" y="141"/>
                    <a:pt x="69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495680" y="5486400"/>
            <a:ext cx="449280" cy="525600"/>
            <a:chOff x="4495680" y="5486400"/>
            <a:chExt cx="449280" cy="525600"/>
          </a:xfrm>
        </p:grpSpPr>
        <p:sp>
          <p:nvSpPr>
            <p:cNvPr id="310" name=""/>
            <p:cNvSpPr/>
            <p:nvPr/>
          </p:nvSpPr>
          <p:spPr>
            <a:xfrm>
              <a:off x="4495680" y="5486400"/>
              <a:ext cx="449280" cy="525600"/>
            </a:xfrm>
            <a:custGeom>
              <a:avLst/>
              <a:gdLst/>
              <a:ahLst/>
              <a:rect l="l" t="t" r="r" b="b"/>
              <a:pathLst>
                <a:path w="1249" h="1461">
                  <a:moveTo>
                    <a:pt x="624" y="0"/>
                  </a:moveTo>
                  <a:cubicBezTo>
                    <a:pt x="978" y="0"/>
                    <a:pt x="1248" y="316"/>
                    <a:pt x="1248" y="730"/>
                  </a:cubicBezTo>
                  <a:cubicBezTo>
                    <a:pt x="1248" y="1144"/>
                    <a:pt x="978" y="1460"/>
                    <a:pt x="624" y="1460"/>
                  </a:cubicBezTo>
                  <a:cubicBezTo>
                    <a:pt x="270" y="1460"/>
                    <a:pt x="0" y="1144"/>
                    <a:pt x="0" y="730"/>
                  </a:cubicBezTo>
                  <a:cubicBezTo>
                    <a:pt x="0" y="316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2600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8" y="0"/>
                    <a:pt x="135" y="33"/>
                    <a:pt x="135" y="79"/>
                  </a:cubicBezTo>
                  <a:cubicBezTo>
                    <a:pt x="135" y="126"/>
                    <a:pt x="108" y="161"/>
                    <a:pt x="66" y="161"/>
                  </a:cubicBezTo>
                  <a:cubicBezTo>
                    <a:pt x="27" y="161"/>
                    <a:pt x="0" y="126"/>
                    <a:pt x="0" y="79"/>
                  </a:cubicBezTo>
                  <a:cubicBezTo>
                    <a:pt x="0" y="33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7036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6" y="0"/>
                    <a:pt x="134" y="33"/>
                    <a:pt x="134" y="79"/>
                  </a:cubicBezTo>
                  <a:cubicBezTo>
                    <a:pt x="134" y="126"/>
                    <a:pt x="106" y="161"/>
                    <a:pt x="65" y="161"/>
                  </a:cubicBezTo>
                  <a:cubicBezTo>
                    <a:pt x="26" y="161"/>
                    <a:pt x="0" y="126"/>
                    <a:pt x="0" y="79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99000" y="5861160"/>
              <a:ext cx="249120" cy="50760"/>
            </a:xfrm>
            <a:custGeom>
              <a:avLst/>
              <a:gdLst/>
              <a:ahLst/>
              <a:rect l="l" t="t" r="r" b="b"/>
              <a:pathLst>
                <a:path w="694" h="141">
                  <a:moveTo>
                    <a:pt x="0" y="0"/>
                  </a:moveTo>
                  <a:cubicBezTo>
                    <a:pt x="219" y="140"/>
                    <a:pt x="474" y="140"/>
                    <a:pt x="6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105520" y="3429000"/>
            <a:ext cx="449280" cy="525600"/>
            <a:chOff x="5105520" y="3429000"/>
            <a:chExt cx="449280" cy="525600"/>
          </a:xfrm>
        </p:grpSpPr>
        <p:sp>
          <p:nvSpPr>
            <p:cNvPr id="315" name=""/>
            <p:cNvSpPr/>
            <p:nvPr/>
          </p:nvSpPr>
          <p:spPr>
            <a:xfrm>
              <a:off x="5105520" y="3429000"/>
              <a:ext cx="449280" cy="525600"/>
            </a:xfrm>
            <a:custGeom>
              <a:avLst/>
              <a:gdLst/>
              <a:ahLst/>
              <a:rect l="l" t="t" r="r" b="b"/>
              <a:pathLst>
                <a:path w="1249" h="1461">
                  <a:moveTo>
                    <a:pt x="624" y="0"/>
                  </a:moveTo>
                  <a:cubicBezTo>
                    <a:pt x="978" y="0"/>
                    <a:pt x="1248" y="316"/>
                    <a:pt x="1248" y="730"/>
                  </a:cubicBezTo>
                  <a:cubicBezTo>
                    <a:pt x="1248" y="1144"/>
                    <a:pt x="978" y="1460"/>
                    <a:pt x="624" y="1460"/>
                  </a:cubicBezTo>
                  <a:cubicBezTo>
                    <a:pt x="270" y="1460"/>
                    <a:pt x="0" y="1144"/>
                    <a:pt x="0" y="730"/>
                  </a:cubicBezTo>
                  <a:cubicBezTo>
                    <a:pt x="0" y="316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35480" y="35863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8" y="0"/>
                    <a:pt x="135" y="33"/>
                    <a:pt x="135" y="79"/>
                  </a:cubicBezTo>
                  <a:cubicBezTo>
                    <a:pt x="135" y="126"/>
                    <a:pt x="108" y="161"/>
                    <a:pt x="66" y="161"/>
                  </a:cubicBezTo>
                  <a:cubicBezTo>
                    <a:pt x="27" y="161"/>
                    <a:pt x="0" y="126"/>
                    <a:pt x="0" y="79"/>
                  </a:cubicBezTo>
                  <a:cubicBezTo>
                    <a:pt x="0" y="33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80200" y="3586320"/>
              <a:ext cx="4896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6" y="0"/>
                    <a:pt x="134" y="33"/>
                    <a:pt x="134" y="79"/>
                  </a:cubicBezTo>
                  <a:cubicBezTo>
                    <a:pt x="134" y="126"/>
                    <a:pt x="106" y="161"/>
                    <a:pt x="65" y="161"/>
                  </a:cubicBezTo>
                  <a:cubicBezTo>
                    <a:pt x="26" y="161"/>
                    <a:pt x="0" y="126"/>
                    <a:pt x="0" y="79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08480" y="3803760"/>
              <a:ext cx="249480" cy="50760"/>
            </a:xfrm>
            <a:custGeom>
              <a:avLst/>
              <a:gdLst/>
              <a:ahLst/>
              <a:rect l="l" t="t" r="r" b="b"/>
              <a:pathLst>
                <a:path w="691" h="141">
                  <a:moveTo>
                    <a:pt x="0" y="0"/>
                  </a:moveTo>
                  <a:cubicBezTo>
                    <a:pt x="219" y="140"/>
                    <a:pt x="471" y="140"/>
                    <a:pt x="69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876920" y="4648320"/>
            <a:ext cx="449280" cy="525240"/>
            <a:chOff x="4876920" y="4648320"/>
            <a:chExt cx="449280" cy="525240"/>
          </a:xfrm>
        </p:grpSpPr>
        <p:sp>
          <p:nvSpPr>
            <p:cNvPr id="320" name=""/>
            <p:cNvSpPr/>
            <p:nvPr/>
          </p:nvSpPr>
          <p:spPr>
            <a:xfrm>
              <a:off x="4876920" y="4648320"/>
              <a:ext cx="449280" cy="525240"/>
            </a:xfrm>
            <a:custGeom>
              <a:avLst/>
              <a:gdLst/>
              <a:ahLst/>
              <a:rect l="l" t="t" r="r" b="b"/>
              <a:pathLst>
                <a:path w="1249" h="1460">
                  <a:moveTo>
                    <a:pt x="624" y="0"/>
                  </a:moveTo>
                  <a:cubicBezTo>
                    <a:pt x="978" y="0"/>
                    <a:pt x="1248" y="315"/>
                    <a:pt x="1248" y="730"/>
                  </a:cubicBezTo>
                  <a:cubicBezTo>
                    <a:pt x="1248" y="1143"/>
                    <a:pt x="978" y="1459"/>
                    <a:pt x="624" y="1459"/>
                  </a:cubicBezTo>
                  <a:cubicBezTo>
                    <a:pt x="270" y="1459"/>
                    <a:pt x="0" y="1143"/>
                    <a:pt x="0" y="730"/>
                  </a:cubicBezTo>
                  <a:cubicBezTo>
                    <a:pt x="0" y="315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0688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8" y="0"/>
                    <a:pt x="135" y="33"/>
                    <a:pt x="135" y="83"/>
                  </a:cubicBezTo>
                  <a:cubicBezTo>
                    <a:pt x="135" y="126"/>
                    <a:pt x="108" y="161"/>
                    <a:pt x="66" y="161"/>
                  </a:cubicBezTo>
                  <a:cubicBezTo>
                    <a:pt x="27" y="161"/>
                    <a:pt x="0" y="126"/>
                    <a:pt x="0" y="83"/>
                  </a:cubicBezTo>
                  <a:cubicBezTo>
                    <a:pt x="0" y="33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51600" y="4805280"/>
              <a:ext cx="4896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6" y="0"/>
                    <a:pt x="134" y="33"/>
                    <a:pt x="134" y="83"/>
                  </a:cubicBezTo>
                  <a:cubicBezTo>
                    <a:pt x="134" y="126"/>
                    <a:pt x="106" y="161"/>
                    <a:pt x="65" y="161"/>
                  </a:cubicBezTo>
                  <a:cubicBezTo>
                    <a:pt x="26" y="161"/>
                    <a:pt x="0" y="126"/>
                    <a:pt x="0" y="83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79880" y="5022720"/>
              <a:ext cx="249480" cy="50760"/>
            </a:xfrm>
            <a:custGeom>
              <a:avLst/>
              <a:gdLst/>
              <a:ahLst/>
              <a:rect l="l" t="t" r="r" b="b"/>
              <a:pathLst>
                <a:path w="691" h="142">
                  <a:moveTo>
                    <a:pt x="0" y="0"/>
                  </a:moveTo>
                  <a:cubicBezTo>
                    <a:pt x="219" y="141"/>
                    <a:pt x="471" y="141"/>
                    <a:pt x="69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 flipV="1">
            <a:off x="2438280" y="1892160"/>
            <a:ext cx="2057400" cy="154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590920" y="2730240"/>
            <a:ext cx="220968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438280" y="2084400"/>
            <a:ext cx="1000440" cy="399600"/>
            <a:chOff x="2438280" y="2084400"/>
            <a:chExt cx="1000440" cy="399600"/>
          </a:xfrm>
        </p:grpSpPr>
        <p:sp>
          <p:nvSpPr>
            <p:cNvPr id="330" name=""/>
            <p:cNvSpPr/>
            <p:nvPr/>
          </p:nvSpPr>
          <p:spPr>
            <a:xfrm>
              <a:off x="2438280" y="2084400"/>
              <a:ext cx="935280" cy="390600"/>
            </a:xfrm>
            <a:prstGeom prst="roundRect">
              <a:avLst>
                <a:gd name="adj" fmla="val 40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2438280" y="2084400"/>
              <a:ext cx="1000440" cy="399600"/>
              <a:chOff x="2438280" y="2084400"/>
              <a:chExt cx="1000440" cy="399600"/>
            </a:xfrm>
          </p:grpSpPr>
          <p:sp>
            <p:nvSpPr>
              <p:cNvPr id="332" name=""/>
              <p:cNvSpPr/>
              <p:nvPr/>
            </p:nvSpPr>
            <p:spPr>
              <a:xfrm>
                <a:off x="2438280" y="2084400"/>
                <a:ext cx="930240" cy="385920"/>
              </a:xfrm>
              <a:prstGeom prst="roundRect">
                <a:avLst>
                  <a:gd name="adj" fmla="val 41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2438280" y="2084400"/>
                <a:ext cx="1000440" cy="399600"/>
                <a:chOff x="2438280" y="2084400"/>
                <a:chExt cx="1000440" cy="3996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438280" y="2084400"/>
                  <a:ext cx="930240" cy="384120"/>
                </a:xfrm>
                <a:prstGeom prst="roundRect">
                  <a:avLst>
                    <a:gd name="adj" fmla="val 41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2438280" y="2084400"/>
                  <a:ext cx="1000440" cy="399600"/>
                  <a:chOff x="2438280" y="2084400"/>
                  <a:chExt cx="1000440" cy="39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2438280" y="2084400"/>
                    <a:ext cx="928800" cy="382680"/>
                  </a:xfrm>
                  <a:prstGeom prst="roundRect">
                    <a:avLst>
                      <a:gd name="adj" fmla="val 41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2438280" y="2084400"/>
                    <a:ext cx="1000440" cy="399600"/>
                    <a:chOff x="2438280" y="2084400"/>
                    <a:chExt cx="1000440" cy="39960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2438280" y="2084400"/>
                      <a:ext cx="927360" cy="382680"/>
                    </a:xfrm>
                    <a:prstGeom prst="roundRect">
                      <a:avLst>
                        <a:gd name="adj" fmla="val 41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2495160" y="2084400"/>
                      <a:ext cx="943560" cy="399600"/>
                    </a:xfrm>
                    <a:prstGeom prst="roundRect">
                      <a:avLst>
                        <a:gd name="adj" fmla="val 41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-m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40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093160" y="107784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12760"/>
            <a:ext cx="776772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981080" y="3352680"/>
            <a:ext cx="449280" cy="525600"/>
            <a:chOff x="1981080" y="3352680"/>
            <a:chExt cx="449280" cy="525600"/>
          </a:xfrm>
        </p:grpSpPr>
        <p:sp>
          <p:nvSpPr>
            <p:cNvPr id="345" name=""/>
            <p:cNvSpPr/>
            <p:nvPr/>
          </p:nvSpPr>
          <p:spPr>
            <a:xfrm>
              <a:off x="1981080" y="3352680"/>
              <a:ext cx="449280" cy="525600"/>
            </a:xfrm>
            <a:custGeom>
              <a:avLst/>
              <a:gdLst/>
              <a:ahLst/>
              <a:rect l="l" t="t" r="r" b="b"/>
              <a:pathLst>
                <a:path w="1249" h="1461">
                  <a:moveTo>
                    <a:pt x="624" y="0"/>
                  </a:moveTo>
                  <a:cubicBezTo>
                    <a:pt x="978" y="0"/>
                    <a:pt x="1248" y="316"/>
                    <a:pt x="1248" y="730"/>
                  </a:cubicBezTo>
                  <a:cubicBezTo>
                    <a:pt x="1248" y="1144"/>
                    <a:pt x="978" y="1460"/>
                    <a:pt x="624" y="1460"/>
                  </a:cubicBezTo>
                  <a:cubicBezTo>
                    <a:pt x="270" y="1460"/>
                    <a:pt x="0" y="1144"/>
                    <a:pt x="0" y="730"/>
                  </a:cubicBezTo>
                  <a:cubicBezTo>
                    <a:pt x="0" y="316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8" y="0"/>
                    <a:pt x="135" y="33"/>
                    <a:pt x="135" y="83"/>
                  </a:cubicBezTo>
                  <a:cubicBezTo>
                    <a:pt x="135" y="126"/>
                    <a:pt x="108" y="161"/>
                    <a:pt x="66" y="161"/>
                  </a:cubicBezTo>
                  <a:cubicBezTo>
                    <a:pt x="27" y="161"/>
                    <a:pt x="0" y="126"/>
                    <a:pt x="0" y="83"/>
                  </a:cubicBezTo>
                  <a:cubicBezTo>
                    <a:pt x="0" y="33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5576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6" y="0"/>
                    <a:pt x="134" y="33"/>
                    <a:pt x="134" y="83"/>
                  </a:cubicBezTo>
                  <a:cubicBezTo>
                    <a:pt x="134" y="126"/>
                    <a:pt x="106" y="161"/>
                    <a:pt x="65" y="161"/>
                  </a:cubicBezTo>
                  <a:cubicBezTo>
                    <a:pt x="26" y="161"/>
                    <a:pt x="0" y="126"/>
                    <a:pt x="0" y="83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84400" y="3727440"/>
              <a:ext cx="249120" cy="50760"/>
            </a:xfrm>
            <a:custGeom>
              <a:avLst/>
              <a:gdLst/>
              <a:ahLst/>
              <a:rect l="l" t="t" r="r" b="b"/>
              <a:pathLst>
                <a:path w="694" h="142">
                  <a:moveTo>
                    <a:pt x="0" y="0"/>
                  </a:moveTo>
                  <a:cubicBezTo>
                    <a:pt x="219" y="141"/>
                    <a:pt x="474" y="141"/>
                    <a:pt x="6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 flipV="1">
            <a:off x="2438280" y="1892160"/>
            <a:ext cx="2057400" cy="154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590920" y="2730240"/>
            <a:ext cx="220968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422440" y="2084400"/>
            <a:ext cx="909720" cy="399600"/>
            <a:chOff x="2422440" y="2084400"/>
            <a:chExt cx="909720" cy="399600"/>
          </a:xfrm>
        </p:grpSpPr>
        <p:sp>
          <p:nvSpPr>
            <p:cNvPr id="355" name=""/>
            <p:cNvSpPr/>
            <p:nvPr/>
          </p:nvSpPr>
          <p:spPr>
            <a:xfrm>
              <a:off x="2438280" y="2084400"/>
              <a:ext cx="893880" cy="390600"/>
            </a:xfrm>
            <a:prstGeom prst="roundRect">
              <a:avLst>
                <a:gd name="adj" fmla="val 40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2422440" y="2084400"/>
              <a:ext cx="905040" cy="399600"/>
              <a:chOff x="2422440" y="2084400"/>
              <a:chExt cx="905040" cy="399600"/>
            </a:xfrm>
          </p:grpSpPr>
          <p:sp>
            <p:nvSpPr>
              <p:cNvPr id="357" name=""/>
              <p:cNvSpPr/>
              <p:nvPr/>
            </p:nvSpPr>
            <p:spPr>
              <a:xfrm>
                <a:off x="2438280" y="2084400"/>
                <a:ext cx="889200" cy="385920"/>
              </a:xfrm>
              <a:prstGeom prst="roundRect">
                <a:avLst>
                  <a:gd name="adj" fmla="val 41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2422440" y="2084400"/>
                <a:ext cx="903960" cy="399600"/>
                <a:chOff x="2422440" y="2084400"/>
                <a:chExt cx="903960" cy="3996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438280" y="2084400"/>
                  <a:ext cx="885960" cy="384120"/>
                </a:xfrm>
                <a:prstGeom prst="roundRect">
                  <a:avLst>
                    <a:gd name="adj" fmla="val 41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0" name=""/>
                <p:cNvGrpSpPr/>
                <p:nvPr/>
              </p:nvGrpSpPr>
              <p:grpSpPr>
                <a:xfrm>
                  <a:off x="2422440" y="2084400"/>
                  <a:ext cx="903960" cy="399600"/>
                  <a:chOff x="2422440" y="2084400"/>
                  <a:chExt cx="903960" cy="3996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2438280" y="2084400"/>
                    <a:ext cx="884520" cy="382680"/>
                  </a:xfrm>
                  <a:prstGeom prst="roundRect">
                    <a:avLst>
                      <a:gd name="adj" fmla="val 41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2422440" y="2084400"/>
                    <a:ext cx="903960" cy="399600"/>
                    <a:chOff x="2422440" y="2084400"/>
                    <a:chExt cx="903960" cy="39960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2438280" y="2084400"/>
                      <a:ext cx="884520" cy="382680"/>
                    </a:xfrm>
                    <a:prstGeom prst="roundRect">
                      <a:avLst>
                        <a:gd name="adj" fmla="val 41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2422440" y="2084400"/>
                      <a:ext cx="903960" cy="399600"/>
                    </a:xfrm>
                    <a:prstGeom prst="roundRect">
                      <a:avLst>
                        <a:gd name="adj" fmla="val 41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WW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5181480" y="33526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876920" y="44956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166240" y="11620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act standalone softwar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938160" y="576360"/>
            <a:ext cx="7772400" cy="320400"/>
            <a:chOff x="938160" y="576360"/>
            <a:chExt cx="7772400" cy="320400"/>
          </a:xfrm>
        </p:grpSpPr>
        <p:sp>
          <p:nvSpPr>
            <p:cNvPr id="375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8709120" y="576360"/>
              <a:ext cx="144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590920" y="518148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5791320"/>
            <a:ext cx="182880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791320" y="5486400"/>
            <a:ext cx="452160" cy="528480"/>
            <a:chOff x="5791320" y="5486400"/>
            <a:chExt cx="452160" cy="528480"/>
          </a:xfrm>
        </p:grpSpPr>
        <p:sp>
          <p:nvSpPr>
            <p:cNvPr id="380" name=""/>
            <p:cNvSpPr/>
            <p:nvPr/>
          </p:nvSpPr>
          <p:spPr>
            <a:xfrm>
              <a:off x="57913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2128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6744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4280" y="58644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6640" y="758520"/>
            <a:ext cx="78487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lassical client-server application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938160" y="576360"/>
            <a:ext cx="7772400" cy="320400"/>
            <a:chOff x="938160" y="576360"/>
            <a:chExt cx="7772400" cy="320400"/>
          </a:xfrm>
        </p:grpSpPr>
        <p:sp>
          <p:nvSpPr>
            <p:cNvPr id="387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8709120" y="576360"/>
              <a:ext cx="144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394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5008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9624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23080" y="586440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401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83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29560" y="351000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5640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 flipV="1">
            <a:off x="4267080" y="4714920"/>
            <a:ext cx="243864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409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20728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180280" y="47973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267080" y="4028760"/>
            <a:ext cx="381240" cy="399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743200" y="5322960"/>
            <a:ext cx="53352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 : similarities to 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l applications controlled by the developer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cated in one machine o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stributed in the machines of the company/clien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938160" y="576360"/>
            <a:ext cx="7772400" cy="320400"/>
            <a:chOff x="938160" y="576360"/>
            <a:chExt cx="7772400" cy="320400"/>
          </a:xfrm>
        </p:grpSpPr>
        <p:sp>
          <p:nvSpPr>
            <p:cNvPr id="421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8709120" y="576360"/>
              <a:ext cx="144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1143000" y="36576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00400" y="4114800"/>
            <a:ext cx="914400" cy="121932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24280" y="3048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5181480"/>
            <a:ext cx="213336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7620120" y="5486400"/>
            <a:ext cx="452160" cy="528480"/>
            <a:chOff x="7620120" y="5486400"/>
            <a:chExt cx="452160" cy="528480"/>
          </a:xfrm>
        </p:grpSpPr>
        <p:sp>
          <p:nvSpPr>
            <p:cNvPr id="428" name=""/>
            <p:cNvSpPr/>
            <p:nvPr/>
          </p:nvSpPr>
          <p:spPr>
            <a:xfrm>
              <a:off x="7620120" y="548640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486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96240" y="5641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21640" y="58644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6934320" y="5791320"/>
            <a:ext cx="60948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551640" y="3351240"/>
            <a:ext cx="453960" cy="530280"/>
            <a:chOff x="6551640" y="3351240"/>
            <a:chExt cx="453960" cy="530280"/>
          </a:xfrm>
        </p:grpSpPr>
        <p:sp>
          <p:nvSpPr>
            <p:cNvPr id="435" name=""/>
            <p:cNvSpPr/>
            <p:nvPr/>
          </p:nvSpPr>
          <p:spPr>
            <a:xfrm>
              <a:off x="6551640" y="335124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819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29560" y="3508200"/>
              <a:ext cx="48960" cy="5904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54960" y="37306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267080" y="4713120"/>
            <a:ext cx="243864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385920" cy="6764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7315200" y="4724280"/>
            <a:ext cx="60948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8077320" y="4419720"/>
            <a:ext cx="452160" cy="528480"/>
            <a:chOff x="8077320" y="4419720"/>
            <a:chExt cx="452160" cy="528480"/>
          </a:xfrm>
        </p:grpSpPr>
        <p:sp>
          <p:nvSpPr>
            <p:cNvPr id="443" name=""/>
            <p:cNvSpPr/>
            <p:nvPr/>
          </p:nvSpPr>
          <p:spPr>
            <a:xfrm>
              <a:off x="8077320" y="44197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058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53440" y="45766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178840" y="47973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5715000" y="3657600"/>
            <a:ext cx="76212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267080" y="4028760"/>
            <a:ext cx="381240" cy="399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62320" y="434340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743200" y="5322960"/>
            <a:ext cx="53352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52480" y="5334120"/>
            <a:ext cx="914400" cy="121896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2280" y="2835360"/>
            <a:ext cx="5538600" cy="3878280"/>
          </a:xfrm>
          <a:custGeom>
            <a:avLst/>
            <a:gdLst/>
            <a:ahLst/>
            <a:rect l="l" t="t" r="r" b="b"/>
            <a:pathLst>
              <a:path w="3489" h="2443">
                <a:moveTo>
                  <a:pt x="387" y="24"/>
                </a:moveTo>
                <a:cubicBezTo>
                  <a:pt x="263" y="46"/>
                  <a:pt x="151" y="98"/>
                  <a:pt x="49" y="172"/>
                </a:cubicBezTo>
                <a:cubicBezTo>
                  <a:pt x="27" y="218"/>
                  <a:pt x="12" y="263"/>
                  <a:pt x="0" y="312"/>
                </a:cubicBezTo>
                <a:cubicBezTo>
                  <a:pt x="13" y="441"/>
                  <a:pt x="19" y="570"/>
                  <a:pt x="33" y="699"/>
                </a:cubicBezTo>
                <a:cubicBezTo>
                  <a:pt x="38" y="943"/>
                  <a:pt x="39" y="1187"/>
                  <a:pt x="49" y="1431"/>
                </a:cubicBezTo>
                <a:cubicBezTo>
                  <a:pt x="50" y="1455"/>
                  <a:pt x="72" y="1492"/>
                  <a:pt x="82" y="1514"/>
                </a:cubicBezTo>
                <a:cubicBezTo>
                  <a:pt x="91" y="1535"/>
                  <a:pt x="115" y="1611"/>
                  <a:pt x="115" y="1612"/>
                </a:cubicBezTo>
                <a:cubicBezTo>
                  <a:pt x="143" y="1699"/>
                  <a:pt x="226" y="1762"/>
                  <a:pt x="255" y="1851"/>
                </a:cubicBezTo>
                <a:cubicBezTo>
                  <a:pt x="258" y="1914"/>
                  <a:pt x="256" y="1977"/>
                  <a:pt x="263" y="2040"/>
                </a:cubicBezTo>
                <a:cubicBezTo>
                  <a:pt x="268" y="2088"/>
                  <a:pt x="278" y="2070"/>
                  <a:pt x="296" y="2098"/>
                </a:cubicBezTo>
                <a:cubicBezTo>
                  <a:pt x="337" y="2161"/>
                  <a:pt x="370" y="2200"/>
                  <a:pt x="444" y="2230"/>
                </a:cubicBezTo>
                <a:cubicBezTo>
                  <a:pt x="485" y="2269"/>
                  <a:pt x="454" y="2243"/>
                  <a:pt x="551" y="2287"/>
                </a:cubicBezTo>
                <a:cubicBezTo>
                  <a:pt x="630" y="2323"/>
                  <a:pt x="721" y="2349"/>
                  <a:pt x="807" y="2361"/>
                </a:cubicBezTo>
                <a:cubicBezTo>
                  <a:pt x="857" y="2387"/>
                  <a:pt x="911" y="2392"/>
                  <a:pt x="963" y="2411"/>
                </a:cubicBezTo>
                <a:cubicBezTo>
                  <a:pt x="974" y="2415"/>
                  <a:pt x="984" y="2424"/>
                  <a:pt x="996" y="2427"/>
                </a:cubicBezTo>
                <a:cubicBezTo>
                  <a:pt x="1023" y="2434"/>
                  <a:pt x="1078" y="2443"/>
                  <a:pt x="1078" y="2443"/>
                </a:cubicBezTo>
                <a:cubicBezTo>
                  <a:pt x="1221" y="2432"/>
                  <a:pt x="1354" y="2402"/>
                  <a:pt x="1498" y="2386"/>
                </a:cubicBezTo>
                <a:cubicBezTo>
                  <a:pt x="1538" y="2373"/>
                  <a:pt x="1574" y="2351"/>
                  <a:pt x="1613" y="2337"/>
                </a:cubicBezTo>
                <a:cubicBezTo>
                  <a:pt x="1768" y="2280"/>
                  <a:pt x="1930" y="2221"/>
                  <a:pt x="2090" y="2180"/>
                </a:cubicBezTo>
                <a:cubicBezTo>
                  <a:pt x="2182" y="2120"/>
                  <a:pt x="2096" y="2169"/>
                  <a:pt x="2197" y="2131"/>
                </a:cubicBezTo>
                <a:cubicBezTo>
                  <a:pt x="2370" y="2066"/>
                  <a:pt x="2546" y="2006"/>
                  <a:pt x="2716" y="1933"/>
                </a:cubicBezTo>
                <a:cubicBezTo>
                  <a:pt x="2741" y="1908"/>
                  <a:pt x="2769" y="1887"/>
                  <a:pt x="2790" y="1859"/>
                </a:cubicBezTo>
                <a:cubicBezTo>
                  <a:pt x="2806" y="1837"/>
                  <a:pt x="2819" y="1812"/>
                  <a:pt x="2839" y="1793"/>
                </a:cubicBezTo>
                <a:cubicBezTo>
                  <a:pt x="2861" y="1771"/>
                  <a:pt x="2905" y="1728"/>
                  <a:pt x="2905" y="1728"/>
                </a:cubicBezTo>
                <a:cubicBezTo>
                  <a:pt x="2938" y="1659"/>
                  <a:pt x="2902" y="1729"/>
                  <a:pt x="2971" y="1629"/>
                </a:cubicBezTo>
                <a:cubicBezTo>
                  <a:pt x="2997" y="1592"/>
                  <a:pt x="3009" y="1551"/>
                  <a:pt x="3036" y="1514"/>
                </a:cubicBezTo>
                <a:cubicBezTo>
                  <a:pt x="3042" y="1484"/>
                  <a:pt x="3047" y="1453"/>
                  <a:pt x="3053" y="1423"/>
                </a:cubicBezTo>
                <a:cubicBezTo>
                  <a:pt x="3059" y="1391"/>
                  <a:pt x="3092" y="1372"/>
                  <a:pt x="3111" y="1349"/>
                </a:cubicBezTo>
                <a:cubicBezTo>
                  <a:pt x="3151" y="1301"/>
                  <a:pt x="3193" y="1249"/>
                  <a:pt x="3242" y="1209"/>
                </a:cubicBezTo>
                <a:cubicBezTo>
                  <a:pt x="3278" y="1180"/>
                  <a:pt x="3317" y="1159"/>
                  <a:pt x="3349" y="1127"/>
                </a:cubicBezTo>
                <a:cubicBezTo>
                  <a:pt x="3370" y="1061"/>
                  <a:pt x="3390" y="994"/>
                  <a:pt x="3415" y="929"/>
                </a:cubicBezTo>
                <a:cubicBezTo>
                  <a:pt x="3424" y="905"/>
                  <a:pt x="3440" y="855"/>
                  <a:pt x="3440" y="855"/>
                </a:cubicBezTo>
                <a:cubicBezTo>
                  <a:pt x="3446" y="758"/>
                  <a:pt x="3453" y="655"/>
                  <a:pt x="3464" y="559"/>
                </a:cubicBezTo>
                <a:cubicBezTo>
                  <a:pt x="3468" y="528"/>
                  <a:pt x="3489" y="469"/>
                  <a:pt x="3489" y="469"/>
                </a:cubicBezTo>
                <a:cubicBezTo>
                  <a:pt x="3466" y="337"/>
                  <a:pt x="3410" y="209"/>
                  <a:pt x="3267" y="181"/>
                </a:cubicBezTo>
                <a:cubicBezTo>
                  <a:pt x="3236" y="166"/>
                  <a:pt x="3209" y="142"/>
                  <a:pt x="3176" y="131"/>
                </a:cubicBezTo>
                <a:cubicBezTo>
                  <a:pt x="3160" y="126"/>
                  <a:pt x="3143" y="127"/>
                  <a:pt x="3127" y="123"/>
                </a:cubicBezTo>
                <a:cubicBezTo>
                  <a:pt x="3048" y="101"/>
                  <a:pt x="2974" y="68"/>
                  <a:pt x="2897" y="41"/>
                </a:cubicBezTo>
                <a:cubicBezTo>
                  <a:pt x="2842" y="21"/>
                  <a:pt x="2781" y="12"/>
                  <a:pt x="2724" y="0"/>
                </a:cubicBezTo>
                <a:cubicBezTo>
                  <a:pt x="2122" y="8"/>
                  <a:pt x="1525" y="31"/>
                  <a:pt x="922" y="41"/>
                </a:cubicBezTo>
                <a:cubicBezTo>
                  <a:pt x="391" y="33"/>
                  <a:pt x="512" y="164"/>
                  <a:pt x="387" y="24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2844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volutsio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4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6520" indent="-3265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rganismi põhiolemuseks on olla isepaljunev masin: iseendast koopiaid tegev koopiamasin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olutsiooni alustalad on triviaalsed: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2520" indent="-270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iratud ressursside puhul ei saa lõputult paljune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2520" indent="-270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ohkem koopiaid tegevaid masinaid saab olema rohkem, kui vähem koopiaid tegevaid masinai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inus oluline asi on järglaste saamin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htsast evolutsioonist tekib aga iseenesest keeruline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2520" indent="-270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irem evolutsioon annab eelise aeglase e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2520" indent="-270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olutsioon ise evolutsioneeru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22520" indent="-2700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ie organismides on sees kiht-kihilt tekkinud “evolutsioonikiirendid”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436840" y="1892160"/>
            <a:ext cx="2057400" cy="154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590920" y="2728440"/>
            <a:ext cx="220968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14600" y="403704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5181480" y="33526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4876920" y="44956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80200" y="1162080"/>
            <a:ext cx="351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905120" y="2730600"/>
            <a:ext cx="228600" cy="93960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637240" y="1219320"/>
            <a:ext cx="152388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438280" y="1128240"/>
            <a:ext cx="251460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14600" y="2209680"/>
            <a:ext cx="3352680" cy="1067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7315200" y="21337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1981080" y="19051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5486400" y="47242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6095880" y="32767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1600200" y="3733920"/>
            <a:ext cx="449280" cy="525240"/>
            <a:chOff x="1600200" y="3733920"/>
            <a:chExt cx="449280" cy="525240"/>
          </a:xfrm>
        </p:grpSpPr>
        <p:sp>
          <p:nvSpPr>
            <p:cNvPr id="481" name=""/>
            <p:cNvSpPr/>
            <p:nvPr/>
          </p:nvSpPr>
          <p:spPr>
            <a:xfrm>
              <a:off x="1600200" y="3733920"/>
              <a:ext cx="449280" cy="525240"/>
            </a:xfrm>
            <a:custGeom>
              <a:avLst/>
              <a:gdLst/>
              <a:ahLst/>
              <a:rect l="l" t="t" r="r" b="b"/>
              <a:pathLst>
                <a:path w="1249" h="1460">
                  <a:moveTo>
                    <a:pt x="624" y="0"/>
                  </a:moveTo>
                  <a:cubicBezTo>
                    <a:pt x="978" y="0"/>
                    <a:pt x="1248" y="315"/>
                    <a:pt x="1248" y="730"/>
                  </a:cubicBezTo>
                  <a:cubicBezTo>
                    <a:pt x="1248" y="1143"/>
                    <a:pt x="978" y="1459"/>
                    <a:pt x="624" y="1459"/>
                  </a:cubicBezTo>
                  <a:cubicBezTo>
                    <a:pt x="270" y="1459"/>
                    <a:pt x="0" y="1143"/>
                    <a:pt x="0" y="730"/>
                  </a:cubicBezTo>
                  <a:cubicBezTo>
                    <a:pt x="0" y="315"/>
                    <a:pt x="270" y="0"/>
                    <a:pt x="624" y="0"/>
                  </a:cubicBezTo>
                  <a:lnTo>
                    <a:pt x="6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305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5" h="162">
                  <a:moveTo>
                    <a:pt x="65" y="0"/>
                  </a:moveTo>
                  <a:cubicBezTo>
                    <a:pt x="107" y="0"/>
                    <a:pt x="134" y="33"/>
                    <a:pt x="134" y="83"/>
                  </a:cubicBezTo>
                  <a:cubicBezTo>
                    <a:pt x="134" y="126"/>
                    <a:pt x="107" y="161"/>
                    <a:pt x="65" y="161"/>
                  </a:cubicBezTo>
                  <a:cubicBezTo>
                    <a:pt x="26" y="161"/>
                    <a:pt x="0" y="126"/>
                    <a:pt x="0" y="83"/>
                  </a:cubicBezTo>
                  <a:cubicBezTo>
                    <a:pt x="0" y="33"/>
                    <a:pt x="26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7164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5" y="0"/>
                  </a:moveTo>
                  <a:cubicBezTo>
                    <a:pt x="107" y="0"/>
                    <a:pt x="135" y="33"/>
                    <a:pt x="135" y="83"/>
                  </a:cubicBezTo>
                  <a:cubicBezTo>
                    <a:pt x="135" y="126"/>
                    <a:pt x="107" y="161"/>
                    <a:pt x="65" y="161"/>
                  </a:cubicBezTo>
                  <a:cubicBezTo>
                    <a:pt x="25" y="161"/>
                    <a:pt x="0" y="126"/>
                    <a:pt x="0" y="83"/>
                  </a:cubicBezTo>
                  <a:cubicBezTo>
                    <a:pt x="0" y="33"/>
                    <a:pt x="25" y="0"/>
                    <a:pt x="65" y="0"/>
                  </a:cubicBezTo>
                  <a:lnTo>
                    <a:pt x="6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03520" y="4108320"/>
              <a:ext cx="249120" cy="50760"/>
            </a:xfrm>
            <a:custGeom>
              <a:avLst/>
              <a:gdLst/>
              <a:ahLst/>
              <a:rect l="l" t="t" r="r" b="b"/>
              <a:pathLst>
                <a:path w="691" h="142">
                  <a:moveTo>
                    <a:pt x="0" y="0"/>
                  </a:moveTo>
                  <a:cubicBezTo>
                    <a:pt x="218" y="141"/>
                    <a:pt x="471" y="141"/>
                    <a:pt x="69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 flipV="1">
            <a:off x="2057400" y="3720600"/>
            <a:ext cx="3886200" cy="101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540120" y="2895480"/>
            <a:ext cx="93996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7454880" y="3048120"/>
            <a:ext cx="1778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6006960" y="4419720"/>
            <a:ext cx="124488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4120" y="1676520"/>
            <a:ext cx="8380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pplications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controlled by the developer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you only have access to the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stem functions like a society of application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938160" y="576360"/>
            <a:ext cx="7772400" cy="320400"/>
            <a:chOff x="938160" y="576360"/>
            <a:chExt cx="7772400" cy="320400"/>
          </a:xfrm>
        </p:grpSpPr>
        <p:sp>
          <p:nvSpPr>
            <p:cNvPr id="493" name=""/>
            <p:cNvSpPr/>
            <p:nvPr/>
          </p:nvSpPr>
          <p:spPr>
            <a:xfrm>
              <a:off x="938160" y="888840"/>
              <a:ext cx="777096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8709120" y="576360"/>
              <a:ext cx="144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6705720" y="2438280"/>
            <a:ext cx="1752480" cy="1295640"/>
            <a:chOff x="6705720" y="2438280"/>
            <a:chExt cx="1752480" cy="1295640"/>
          </a:xfrm>
        </p:grpSpPr>
        <p:sp>
          <p:nvSpPr>
            <p:cNvPr id="496" name=""/>
            <p:cNvSpPr/>
            <p:nvPr/>
          </p:nvSpPr>
          <p:spPr>
            <a:xfrm>
              <a:off x="6848640" y="27129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99520" y="28656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81920" y="25099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40520" y="3273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837560" y="2830320"/>
              <a:ext cx="120600" cy="14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4200" y="29415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354800" y="326340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05720" y="24382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33520" y="3124080"/>
            <a:ext cx="1752480" cy="1295640"/>
            <a:chOff x="533520" y="3124080"/>
            <a:chExt cx="1752480" cy="1295640"/>
          </a:xfrm>
        </p:grpSpPr>
        <p:sp>
          <p:nvSpPr>
            <p:cNvPr id="505" name=""/>
            <p:cNvSpPr/>
            <p:nvPr/>
          </p:nvSpPr>
          <p:spPr>
            <a:xfrm>
              <a:off x="676440" y="3398760"/>
              <a:ext cx="2887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27320" y="35514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09720" y="319572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68320" y="39592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665360" y="3516120"/>
              <a:ext cx="120600" cy="14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062000" y="362736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182600" y="394920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3520" y="3124080"/>
              <a:ext cx="1752480" cy="129564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1828800" y="5105520"/>
            <a:ext cx="1752480" cy="1295280"/>
            <a:chOff x="1828800" y="5105520"/>
            <a:chExt cx="1752480" cy="1295280"/>
          </a:xfrm>
        </p:grpSpPr>
        <p:sp>
          <p:nvSpPr>
            <p:cNvPr id="514" name=""/>
            <p:cNvSpPr/>
            <p:nvPr/>
          </p:nvSpPr>
          <p:spPr>
            <a:xfrm>
              <a:off x="1971720" y="53802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22600" y="55324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05000" y="51768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62160" y="59403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960640" y="549756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55840" y="56088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2478240" y="5930640"/>
              <a:ext cx="16812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288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733920" y="3505320"/>
            <a:ext cx="1752480" cy="1295280"/>
            <a:chOff x="3733920" y="3505320"/>
            <a:chExt cx="1752480" cy="1295280"/>
          </a:xfrm>
        </p:grpSpPr>
        <p:sp>
          <p:nvSpPr>
            <p:cNvPr id="523" name=""/>
            <p:cNvSpPr/>
            <p:nvPr/>
          </p:nvSpPr>
          <p:spPr>
            <a:xfrm>
              <a:off x="3876840" y="378000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27720" y="393228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10120" y="35766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68720" y="434016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4865760" y="389736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62400" y="400860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4383000" y="433044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33920" y="3505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952880" y="5257800"/>
            <a:ext cx="1752840" cy="1295280"/>
            <a:chOff x="4952880" y="5257800"/>
            <a:chExt cx="1752840" cy="1295280"/>
          </a:xfrm>
        </p:grpSpPr>
        <p:sp>
          <p:nvSpPr>
            <p:cNvPr id="532" name=""/>
            <p:cNvSpPr/>
            <p:nvPr/>
          </p:nvSpPr>
          <p:spPr>
            <a:xfrm>
              <a:off x="5095800" y="553248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46680" y="5683320"/>
              <a:ext cx="289080" cy="4096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29440" y="5327640"/>
              <a:ext cx="28872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89480" y="6093000"/>
              <a:ext cx="289080" cy="4078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6084720" y="5649840"/>
              <a:ext cx="12096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81720" y="576108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5602320" y="6082920"/>
              <a:ext cx="16812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52880" y="5257800"/>
              <a:ext cx="175284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8151840" y="4800600"/>
            <a:ext cx="453960" cy="528480"/>
            <a:chOff x="8151840" y="4800600"/>
            <a:chExt cx="453960" cy="528480"/>
          </a:xfrm>
        </p:grpSpPr>
        <p:sp>
          <p:nvSpPr>
            <p:cNvPr id="542" name=""/>
            <p:cNvSpPr/>
            <p:nvPr/>
          </p:nvSpPr>
          <p:spPr>
            <a:xfrm>
              <a:off x="8151840" y="480060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283600" y="49579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429760" y="4957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548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0668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79680" y="2968560"/>
              <a:ext cx="25092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553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79440" y="6019920"/>
            <a:ext cx="453960" cy="528480"/>
            <a:chOff x="379440" y="6019920"/>
            <a:chExt cx="453960" cy="528480"/>
          </a:xfrm>
        </p:grpSpPr>
        <p:sp>
          <p:nvSpPr>
            <p:cNvPr id="558" name=""/>
            <p:cNvSpPr/>
            <p:nvPr/>
          </p:nvSpPr>
          <p:spPr>
            <a:xfrm>
              <a:off x="379440" y="6019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7772400" y="38098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 flipV="1">
            <a:off x="1371600" y="5934240"/>
            <a:ext cx="380880" cy="171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86400" y="4103280"/>
            <a:ext cx="2057400" cy="95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562720" y="3114360"/>
            <a:ext cx="990360" cy="4762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1590480" y="4408560"/>
            <a:ext cx="32364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571560" y="5715000"/>
            <a:ext cx="12380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503080" y="3724200"/>
            <a:ext cx="100980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2733840" y="4343400"/>
            <a:ext cx="93312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428560" y="2971800"/>
            <a:ext cx="78084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tting access and understanding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networking. Connected groups of people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938160" y="576360"/>
            <a:ext cx="7770960" cy="320400"/>
            <a:chOff x="938160" y="576360"/>
            <a:chExt cx="7770960" cy="320400"/>
          </a:xfrm>
        </p:grpSpPr>
        <p:sp>
          <p:nvSpPr>
            <p:cNvPr id="575" name=""/>
            <p:cNvSpPr/>
            <p:nvPr/>
          </p:nvSpPr>
          <p:spPr>
            <a:xfrm>
              <a:off x="938160" y="887400"/>
              <a:ext cx="77709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8707320" y="576360"/>
              <a:ext cx="1800" cy="3204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486400" y="434340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8153280" y="4800600"/>
            <a:ext cx="454320" cy="528480"/>
            <a:chOff x="8153280" y="4800600"/>
            <a:chExt cx="454320" cy="528480"/>
          </a:xfrm>
        </p:grpSpPr>
        <p:sp>
          <p:nvSpPr>
            <p:cNvPr id="579" name=""/>
            <p:cNvSpPr/>
            <p:nvPr/>
          </p:nvSpPr>
          <p:spPr>
            <a:xfrm>
              <a:off x="8153280" y="480060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276720" y="2590920"/>
            <a:ext cx="452160" cy="528480"/>
            <a:chOff x="3276720" y="2590920"/>
            <a:chExt cx="452160" cy="528480"/>
          </a:xfrm>
        </p:grpSpPr>
        <p:sp>
          <p:nvSpPr>
            <p:cNvPr id="584" name=""/>
            <p:cNvSpPr/>
            <p:nvPr/>
          </p:nvSpPr>
          <p:spPr>
            <a:xfrm>
              <a:off x="3276720" y="2590920"/>
              <a:ext cx="4521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8229600" y="3733920"/>
            <a:ext cx="453960" cy="528480"/>
            <a:chOff x="8229600" y="3733920"/>
            <a:chExt cx="453960" cy="528480"/>
          </a:xfrm>
        </p:grpSpPr>
        <p:sp>
          <p:nvSpPr>
            <p:cNvPr id="589" name=""/>
            <p:cNvSpPr/>
            <p:nvPr/>
          </p:nvSpPr>
          <p:spPr>
            <a:xfrm>
              <a:off x="8229600" y="3733920"/>
              <a:ext cx="45396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599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329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80880" y="6019920"/>
            <a:ext cx="454320" cy="528480"/>
            <a:chOff x="380880" y="6019920"/>
            <a:chExt cx="454320" cy="528480"/>
          </a:xfrm>
        </p:grpSpPr>
        <p:sp>
          <p:nvSpPr>
            <p:cNvPr id="594" name=""/>
            <p:cNvSpPr/>
            <p:nvPr/>
          </p:nvSpPr>
          <p:spPr>
            <a:xfrm>
              <a:off x="380880" y="6019920"/>
              <a:ext cx="454320" cy="5284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 flipV="1">
            <a:off x="1371600" y="5932440"/>
            <a:ext cx="380880" cy="171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86400" y="4103280"/>
            <a:ext cx="2057400" cy="95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486400" y="3191040"/>
            <a:ext cx="990720" cy="475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 flipV="1">
            <a:off x="1590480" y="4408560"/>
            <a:ext cx="32364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571560" y="5715000"/>
            <a:ext cx="12380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2503080" y="3724200"/>
            <a:ext cx="100980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33840" y="4343400"/>
            <a:ext cx="933120" cy="5335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428560" y="2971800"/>
            <a:ext cx="780840" cy="304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33520" y="2971800"/>
            <a:ext cx="1753920" cy="1295280"/>
            <a:chOff x="533520" y="2971800"/>
            <a:chExt cx="1753920" cy="1295280"/>
          </a:xfrm>
        </p:grpSpPr>
        <p:sp>
          <p:nvSpPr>
            <p:cNvPr id="607" name=""/>
            <p:cNvSpPr/>
            <p:nvPr/>
          </p:nvSpPr>
          <p:spPr>
            <a:xfrm>
              <a:off x="53352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841320" y="2971800"/>
              <a:ext cx="1216080" cy="1143000"/>
              <a:chOff x="841320" y="2971800"/>
              <a:chExt cx="1216080" cy="1143000"/>
            </a:xfrm>
          </p:grpSpPr>
          <p:sp>
            <p:nvSpPr>
              <p:cNvPr id="609" name=""/>
              <p:cNvSpPr/>
              <p:nvPr/>
            </p:nvSpPr>
            <p:spPr>
              <a:xfrm flipV="1">
                <a:off x="1627200" y="3292200"/>
                <a:ext cx="120600" cy="145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025640" y="34034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1147680" y="3648240"/>
                <a:ext cx="168480" cy="196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1833480" y="2971800"/>
                <a:ext cx="223920" cy="457200"/>
                <a:chOff x="1833480" y="2971800"/>
                <a:chExt cx="223920" cy="4572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1833480" y="2971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897200" y="3106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969920" y="3106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884240" y="3298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1376280" y="3200400"/>
                <a:ext cx="223920" cy="457200"/>
                <a:chOff x="1376280" y="3200400"/>
                <a:chExt cx="223920" cy="45720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1376280" y="32004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440000" y="33354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512720" y="33354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427040" y="35272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841320" y="3044880"/>
                <a:ext cx="223920" cy="457200"/>
                <a:chOff x="841320" y="3044880"/>
                <a:chExt cx="223920" cy="45720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841320" y="30448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905040" y="31798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976320" y="31798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92080" y="33703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919080" y="3657600"/>
                <a:ext cx="223920" cy="457200"/>
                <a:chOff x="919080" y="3657600"/>
                <a:chExt cx="223920" cy="4572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919080" y="3657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982800" y="3792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055520" y="37926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969840" y="39844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2" name=""/>
            <p:cNvSpPr/>
            <p:nvPr/>
          </p:nvSpPr>
          <p:spPr>
            <a:xfrm>
              <a:off x="534960" y="2971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676520" y="5029200"/>
            <a:ext cx="1752480" cy="1295280"/>
            <a:chOff x="1676520" y="5029200"/>
            <a:chExt cx="1752480" cy="1295280"/>
          </a:xfrm>
        </p:grpSpPr>
        <p:sp>
          <p:nvSpPr>
            <p:cNvPr id="634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1984320" y="5029200"/>
              <a:ext cx="1216080" cy="1143000"/>
              <a:chOff x="1984320" y="5029200"/>
              <a:chExt cx="1216080" cy="1143000"/>
            </a:xfrm>
          </p:grpSpPr>
          <p:sp>
            <p:nvSpPr>
              <p:cNvPr id="636" name=""/>
              <p:cNvSpPr/>
              <p:nvPr/>
            </p:nvSpPr>
            <p:spPr>
              <a:xfrm flipV="1">
                <a:off x="2770200" y="5349600"/>
                <a:ext cx="120600" cy="145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168640" y="546084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2290680" y="5705640"/>
                <a:ext cx="168480" cy="196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2976480" y="5029200"/>
                <a:ext cx="223920" cy="457200"/>
                <a:chOff x="2976480" y="5029200"/>
                <a:chExt cx="223920" cy="4572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976480" y="5029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040200" y="5164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112920" y="51642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027240" y="53560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2519280" y="5257800"/>
                <a:ext cx="223920" cy="457200"/>
                <a:chOff x="2519280" y="5257800"/>
                <a:chExt cx="223920" cy="45720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2519280" y="5257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583000" y="5392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655720" y="53928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570040" y="55846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1984320" y="5102280"/>
                <a:ext cx="223920" cy="457200"/>
                <a:chOff x="1984320" y="5102280"/>
                <a:chExt cx="223920" cy="45720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1984320" y="510228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048040" y="523728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119320" y="523728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033640" y="542772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2062080" y="5715000"/>
                <a:ext cx="223920" cy="457200"/>
                <a:chOff x="2062080" y="5715000"/>
                <a:chExt cx="223920" cy="4572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2062080" y="57150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125800" y="58500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198520" y="5850000"/>
                  <a:ext cx="2412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112840" y="604188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>
              <a:off x="167652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661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663" name=""/>
              <p:cNvSpPr/>
              <p:nvPr/>
            </p:nvSpPr>
            <p:spPr>
              <a:xfrm flipV="1">
                <a:off x="4751280" y="4054320"/>
                <a:ext cx="12060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4272120" y="4408200"/>
                <a:ext cx="16812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6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5029200" y="5105520"/>
            <a:ext cx="1752480" cy="1295280"/>
            <a:chOff x="5029200" y="5105520"/>
            <a:chExt cx="1752480" cy="1295280"/>
          </a:xfrm>
        </p:grpSpPr>
        <p:sp>
          <p:nvSpPr>
            <p:cNvPr id="688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5335560" y="5105520"/>
              <a:ext cx="1217520" cy="1143000"/>
              <a:chOff x="5335560" y="5105520"/>
              <a:chExt cx="1217520" cy="1143000"/>
            </a:xfrm>
          </p:grpSpPr>
          <p:sp>
            <p:nvSpPr>
              <p:cNvPr id="690" name=""/>
              <p:cNvSpPr/>
              <p:nvPr/>
            </p:nvSpPr>
            <p:spPr>
              <a:xfrm flipV="1">
                <a:off x="6122880" y="5425920"/>
                <a:ext cx="12060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21320" y="55371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5643720" y="5779800"/>
                <a:ext cx="16812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3" name=""/>
              <p:cNvGrpSpPr/>
              <p:nvPr/>
            </p:nvGrpSpPr>
            <p:grpSpPr>
              <a:xfrm>
                <a:off x="6329520" y="5105520"/>
                <a:ext cx="223560" cy="457200"/>
                <a:chOff x="6329520" y="5105520"/>
                <a:chExt cx="223560" cy="45720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329520" y="5105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392880" y="5238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465960" y="5238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380280" y="5432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5872320" y="5334120"/>
                <a:ext cx="223560" cy="457200"/>
                <a:chOff x="5872320" y="5334120"/>
                <a:chExt cx="223560" cy="45720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5872320" y="53341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935680" y="54673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008760" y="54673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23080" y="5661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5335560" y="5176800"/>
                <a:ext cx="223920" cy="457200"/>
                <a:chOff x="5335560" y="5176800"/>
                <a:chExt cx="223920" cy="45720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5335560" y="51768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400720" y="53118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473800" y="53118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386320" y="55040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5415120" y="5791320"/>
                <a:ext cx="223560" cy="457200"/>
                <a:chOff x="5415120" y="5791320"/>
                <a:chExt cx="223560" cy="457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5415120" y="57913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478480" y="59245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551560" y="59245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465880" y="6118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3" name=""/>
            <p:cNvSpPr/>
            <p:nvPr/>
          </p:nvSpPr>
          <p:spPr>
            <a:xfrm>
              <a:off x="5029200" y="51055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657600" y="3733920"/>
            <a:ext cx="1752480" cy="1295280"/>
            <a:chOff x="3657600" y="3733920"/>
            <a:chExt cx="1752480" cy="1295280"/>
          </a:xfrm>
        </p:grpSpPr>
        <p:sp>
          <p:nvSpPr>
            <p:cNvPr id="715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3963960" y="3733920"/>
              <a:ext cx="1217520" cy="1143000"/>
              <a:chOff x="3963960" y="3733920"/>
              <a:chExt cx="1217520" cy="1143000"/>
            </a:xfrm>
          </p:grpSpPr>
          <p:sp>
            <p:nvSpPr>
              <p:cNvPr id="717" name=""/>
              <p:cNvSpPr/>
              <p:nvPr/>
            </p:nvSpPr>
            <p:spPr>
              <a:xfrm flipV="1">
                <a:off x="4751280" y="4054320"/>
                <a:ext cx="12060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149720" y="41655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272120" y="4408200"/>
                <a:ext cx="16812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"/>
              <p:cNvGrpSpPr/>
              <p:nvPr/>
            </p:nvGrpSpPr>
            <p:grpSpPr>
              <a:xfrm>
                <a:off x="4957920" y="3733920"/>
                <a:ext cx="223560" cy="457200"/>
                <a:chOff x="4957920" y="3733920"/>
                <a:chExt cx="223560" cy="45720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4957920" y="37339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021280" y="38671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094360" y="38671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008680" y="4060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4500720" y="3962520"/>
                <a:ext cx="223560" cy="457200"/>
                <a:chOff x="4500720" y="3962520"/>
                <a:chExt cx="223560" cy="45720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4500720" y="39625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564080" y="40957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637160" y="409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551480" y="42894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3963960" y="3805200"/>
                <a:ext cx="223920" cy="457200"/>
                <a:chOff x="3963960" y="3805200"/>
                <a:chExt cx="223920" cy="45720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3963960" y="38052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029120" y="39402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102200" y="394020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014720" y="41324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4043520" y="4419720"/>
                <a:ext cx="223560" cy="457200"/>
                <a:chOff x="4043520" y="4419720"/>
                <a:chExt cx="223560" cy="45720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4043520" y="4419720"/>
                  <a:ext cx="22356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106880" y="4552920"/>
                  <a:ext cx="255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179960" y="45529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094280" y="47466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0" name=""/>
            <p:cNvSpPr/>
            <p:nvPr/>
          </p:nvSpPr>
          <p:spPr>
            <a:xfrm>
              <a:off x="3657600" y="37339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477120" y="2362320"/>
            <a:ext cx="1752480" cy="1295280"/>
            <a:chOff x="6477120" y="2362320"/>
            <a:chExt cx="1752480" cy="1295280"/>
          </a:xfrm>
        </p:grpSpPr>
        <p:sp>
          <p:nvSpPr>
            <p:cNvPr id="742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6784920" y="2362320"/>
              <a:ext cx="1216080" cy="1143000"/>
              <a:chOff x="6784920" y="2362320"/>
              <a:chExt cx="1216080" cy="1143000"/>
            </a:xfrm>
          </p:grpSpPr>
          <p:sp>
            <p:nvSpPr>
              <p:cNvPr id="744" name=""/>
              <p:cNvSpPr/>
              <p:nvPr/>
            </p:nvSpPr>
            <p:spPr>
              <a:xfrm flipV="1">
                <a:off x="7570800" y="2682720"/>
                <a:ext cx="120600" cy="146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969240" y="2793960"/>
                <a:ext cx="217440" cy="127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7091280" y="3036600"/>
                <a:ext cx="168480" cy="196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7" name=""/>
              <p:cNvGrpSpPr/>
              <p:nvPr/>
            </p:nvGrpSpPr>
            <p:grpSpPr>
              <a:xfrm>
                <a:off x="7777080" y="2362320"/>
                <a:ext cx="223920" cy="457200"/>
                <a:chOff x="7777080" y="2362320"/>
                <a:chExt cx="223920" cy="45720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7777080" y="23623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840800" y="24955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913520" y="24955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827840" y="26892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7319880" y="2590920"/>
                <a:ext cx="223920" cy="457200"/>
                <a:chOff x="7319880" y="2590920"/>
                <a:chExt cx="223920" cy="45720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7319880" y="25909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7383600" y="27241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56320" y="27241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370640" y="29178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6784920" y="2433600"/>
                <a:ext cx="223920" cy="457200"/>
                <a:chOff x="6784920" y="2433600"/>
                <a:chExt cx="223920" cy="45720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6784920" y="243360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848640" y="2568600"/>
                  <a:ext cx="2520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919920" y="256860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834240" y="276084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6862680" y="3048120"/>
                <a:ext cx="223920" cy="457200"/>
                <a:chOff x="6862680" y="3048120"/>
                <a:chExt cx="223920" cy="45720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6862680" y="3048120"/>
                  <a:ext cx="223920" cy="457200"/>
                </a:xfrm>
                <a:custGeom>
                  <a:avLst/>
                  <a:gdLst/>
                  <a:ahLst/>
                  <a:rect l="l" t="t" r="r" b="b"/>
                  <a:pathLst>
                    <a:path w="1263" h="1474">
                      <a:moveTo>
                        <a:pt x="631" y="0"/>
                      </a:moveTo>
                      <a:cubicBezTo>
                        <a:pt x="989" y="0"/>
                        <a:pt x="1262" y="319"/>
                        <a:pt x="1262" y="737"/>
                      </a:cubicBezTo>
                      <a:cubicBezTo>
                        <a:pt x="1262" y="1154"/>
                        <a:pt x="989" y="1473"/>
                        <a:pt x="631" y="1473"/>
                      </a:cubicBezTo>
                      <a:cubicBezTo>
                        <a:pt x="273" y="1473"/>
                        <a:pt x="0" y="1154"/>
                        <a:pt x="0" y="737"/>
                      </a:cubicBezTo>
                      <a:cubicBezTo>
                        <a:pt x="0" y="319"/>
                        <a:pt x="273" y="0"/>
                        <a:pt x="631" y="0"/>
                      </a:cubicBezTo>
                      <a:lnTo>
                        <a:pt x="631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926400" y="3181320"/>
                  <a:ext cx="2520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8" y="0"/>
                      </a:moveTo>
                      <a:cubicBezTo>
                        <a:pt x="107" y="0"/>
                        <a:pt x="135" y="34"/>
                        <a:pt x="135" y="81"/>
                      </a:cubicBezTo>
                      <a:cubicBezTo>
                        <a:pt x="135" y="126"/>
                        <a:pt x="107" y="161"/>
                        <a:pt x="68" y="161"/>
                      </a:cubicBezTo>
                      <a:cubicBezTo>
                        <a:pt x="29" y="161"/>
                        <a:pt x="0" y="126"/>
                        <a:pt x="0" y="81"/>
                      </a:cubicBezTo>
                      <a:cubicBezTo>
                        <a:pt x="0" y="34"/>
                        <a:pt x="29" y="0"/>
                        <a:pt x="68" y="0"/>
                      </a:cubicBezTo>
                      <a:lnTo>
                        <a:pt x="68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999120" y="3181320"/>
                  <a:ext cx="24120" cy="52560"/>
                </a:xfrm>
                <a:custGeom>
                  <a:avLst/>
                  <a:gdLst/>
                  <a:ahLst/>
                  <a:rect l="l" t="t" r="r" b="b"/>
                  <a:pathLst>
                    <a:path w="136" h="162">
                      <a:moveTo>
                        <a:pt x="66" y="0"/>
                      </a:moveTo>
                      <a:cubicBezTo>
                        <a:pt x="105" y="0"/>
                        <a:pt x="135" y="34"/>
                        <a:pt x="135" y="81"/>
                      </a:cubicBezTo>
                      <a:cubicBezTo>
                        <a:pt x="135" y="126"/>
                        <a:pt x="105" y="161"/>
                        <a:pt x="66" y="161"/>
                      </a:cubicBezTo>
                      <a:cubicBezTo>
                        <a:pt x="27" y="161"/>
                        <a:pt x="0" y="126"/>
                        <a:pt x="0" y="81"/>
                      </a:cubicBezTo>
                      <a:cubicBezTo>
                        <a:pt x="0" y="34"/>
                        <a:pt x="27" y="0"/>
                        <a:pt x="66" y="0"/>
                      </a:cubicBezTo>
                      <a:lnTo>
                        <a:pt x="66" y="0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913440" y="3375000"/>
                  <a:ext cx="123840" cy="42840"/>
                </a:xfrm>
                <a:custGeom>
                  <a:avLst/>
                  <a:gdLst/>
                  <a:ahLst/>
                  <a:rect l="l" t="t" r="r" b="b"/>
                  <a:pathLst>
                    <a:path w="699" h="141">
                      <a:moveTo>
                        <a:pt x="0" y="0"/>
                      </a:moveTo>
                      <a:cubicBezTo>
                        <a:pt x="222" y="140"/>
                        <a:pt x="476" y="140"/>
                        <a:pt x="698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7" name=""/>
            <p:cNvSpPr/>
            <p:nvPr/>
          </p:nvSpPr>
          <p:spPr>
            <a:xfrm>
              <a:off x="6477120" y="236232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6960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rchitecture III revisit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4840" y="75888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groups consist of both people and app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936720" y="572760"/>
            <a:ext cx="7772400" cy="320760"/>
            <a:chOff x="936720" y="572760"/>
            <a:chExt cx="7772400" cy="320760"/>
          </a:xfrm>
        </p:grpSpPr>
        <p:sp>
          <p:nvSpPr>
            <p:cNvPr id="771" name=""/>
            <p:cNvSpPr/>
            <p:nvPr/>
          </p:nvSpPr>
          <p:spPr>
            <a:xfrm>
              <a:off x="936720" y="887400"/>
              <a:ext cx="777060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8707320" y="572760"/>
              <a:ext cx="1800" cy="32076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5486400" y="4341960"/>
            <a:ext cx="2133720" cy="4572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8153280" y="4799160"/>
            <a:ext cx="454320" cy="529920"/>
            <a:chOff x="8153280" y="4799160"/>
            <a:chExt cx="454320" cy="529920"/>
          </a:xfrm>
        </p:grpSpPr>
        <p:sp>
          <p:nvSpPr>
            <p:cNvPr id="775" name=""/>
            <p:cNvSpPr/>
            <p:nvPr/>
          </p:nvSpPr>
          <p:spPr>
            <a:xfrm>
              <a:off x="8153280" y="4799160"/>
              <a:ext cx="454320" cy="52992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283600" y="495612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429760" y="49561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256600" y="51786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769608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780" name=""/>
          <p:cNvGrpSpPr/>
          <p:nvPr/>
        </p:nvGrpSpPr>
        <p:grpSpPr>
          <a:xfrm>
            <a:off x="3276720" y="2590920"/>
            <a:ext cx="453960" cy="530280"/>
            <a:chOff x="3276720" y="2590920"/>
            <a:chExt cx="453960" cy="530280"/>
          </a:xfrm>
        </p:grpSpPr>
        <p:sp>
          <p:nvSpPr>
            <p:cNvPr id="781" name=""/>
            <p:cNvSpPr/>
            <p:nvPr/>
          </p:nvSpPr>
          <p:spPr>
            <a:xfrm>
              <a:off x="3276720" y="2590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4052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552840" y="2747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378240" y="2968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8228160" y="3733920"/>
            <a:ext cx="453960" cy="530280"/>
            <a:chOff x="8228160" y="3733920"/>
            <a:chExt cx="453960" cy="530280"/>
          </a:xfrm>
        </p:grpSpPr>
        <p:sp>
          <p:nvSpPr>
            <p:cNvPr id="786" name=""/>
            <p:cNvSpPr/>
            <p:nvPr/>
          </p:nvSpPr>
          <p:spPr>
            <a:xfrm>
              <a:off x="8228160" y="3733920"/>
              <a:ext cx="45396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3581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505720" y="3890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331120" y="4111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80880" y="6019920"/>
            <a:ext cx="454320" cy="530280"/>
            <a:chOff x="380880" y="6019920"/>
            <a:chExt cx="454320" cy="530280"/>
          </a:xfrm>
        </p:grpSpPr>
        <p:sp>
          <p:nvSpPr>
            <p:cNvPr id="791" name=""/>
            <p:cNvSpPr/>
            <p:nvPr/>
          </p:nvSpPr>
          <p:spPr>
            <a:xfrm>
              <a:off x="380880" y="6019920"/>
              <a:ext cx="454320" cy="530280"/>
            </a:xfrm>
            <a:custGeom>
              <a:avLst/>
              <a:gdLst/>
              <a:ahLst/>
              <a:rect l="l" t="t" r="r" b="b"/>
              <a:pathLst>
                <a:path w="1263" h="1474">
                  <a:moveTo>
                    <a:pt x="631" y="0"/>
                  </a:moveTo>
                  <a:cubicBezTo>
                    <a:pt x="989" y="0"/>
                    <a:pt x="1262" y="319"/>
                    <a:pt x="1262" y="737"/>
                  </a:cubicBezTo>
                  <a:cubicBezTo>
                    <a:pt x="1262" y="1154"/>
                    <a:pt x="989" y="1473"/>
                    <a:pt x="631" y="1473"/>
                  </a:cubicBezTo>
                  <a:cubicBezTo>
                    <a:pt x="273" y="1473"/>
                    <a:pt x="0" y="1154"/>
                    <a:pt x="0" y="737"/>
                  </a:cubicBezTo>
                  <a:cubicBezTo>
                    <a:pt x="0" y="319"/>
                    <a:pt x="273" y="0"/>
                    <a:pt x="631" y="0"/>
                  </a:cubicBezTo>
                  <a:lnTo>
                    <a:pt x="63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1200" y="6176880"/>
              <a:ext cx="4932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8" y="0"/>
                  </a:moveTo>
                  <a:cubicBezTo>
                    <a:pt x="107" y="0"/>
                    <a:pt x="135" y="34"/>
                    <a:pt x="135" y="81"/>
                  </a:cubicBezTo>
                  <a:cubicBezTo>
                    <a:pt x="135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57360" y="6176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84200" y="639756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2" y="140"/>
                    <a:pt x="476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7772400" y="380844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990720" y="5791320"/>
            <a:ext cx="385560" cy="6760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 flipV="1">
            <a:off x="1371600" y="5932440"/>
            <a:ext cx="380880" cy="171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5486400" y="4101840"/>
            <a:ext cx="2057400" cy="968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486400" y="3191040"/>
            <a:ext cx="990720" cy="475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1589040" y="4408560"/>
            <a:ext cx="325440" cy="5522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3571560" y="5715000"/>
            <a:ext cx="12380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2503080" y="3722760"/>
            <a:ext cx="1009800" cy="247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2733840" y="4341960"/>
            <a:ext cx="933120" cy="5349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427120" y="2970360"/>
            <a:ext cx="782640" cy="306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4878360" y="5257800"/>
            <a:ext cx="1752480" cy="1295280"/>
            <a:chOff x="4878360" y="5257800"/>
            <a:chExt cx="1752480" cy="1295280"/>
          </a:xfrm>
        </p:grpSpPr>
        <p:sp>
          <p:nvSpPr>
            <p:cNvPr id="806" name=""/>
            <p:cNvSpPr/>
            <p:nvPr/>
          </p:nvSpPr>
          <p:spPr>
            <a:xfrm>
              <a:off x="5106960" y="60451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045040" y="55389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78360" y="52578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5892840" y="562932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89480" y="57420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5413320" y="598608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6097680" y="5308560"/>
              <a:ext cx="225360" cy="457200"/>
              <a:chOff x="6097680" y="5308560"/>
              <a:chExt cx="225360" cy="457200"/>
            </a:xfrm>
          </p:grpSpPr>
          <p:sp>
            <p:nvSpPr>
              <p:cNvPr id="813" name=""/>
              <p:cNvSpPr/>
              <p:nvPr/>
            </p:nvSpPr>
            <p:spPr>
              <a:xfrm>
                <a:off x="609768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162840" y="54435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23556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14844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5640480" y="5537160"/>
              <a:ext cx="225360" cy="457200"/>
              <a:chOff x="5640480" y="5537160"/>
              <a:chExt cx="225360" cy="457200"/>
            </a:xfrm>
          </p:grpSpPr>
          <p:sp>
            <p:nvSpPr>
              <p:cNvPr id="818" name=""/>
              <p:cNvSpPr/>
              <p:nvPr/>
            </p:nvSpPr>
            <p:spPr>
              <a:xfrm>
                <a:off x="5640480" y="55371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705640" y="56721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778360" y="56721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91240" y="58644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534960" y="2820960"/>
            <a:ext cx="1752480" cy="1295280"/>
            <a:chOff x="534960" y="2820960"/>
            <a:chExt cx="1752480" cy="1295280"/>
          </a:xfrm>
        </p:grpSpPr>
        <p:sp>
          <p:nvSpPr>
            <p:cNvPr id="823" name=""/>
            <p:cNvSpPr/>
            <p:nvPr/>
          </p:nvSpPr>
          <p:spPr>
            <a:xfrm>
              <a:off x="763560" y="36082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01640" y="31003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960" y="28209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1549440" y="319248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946080" y="33037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1069920" y="354780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1754280" y="2871720"/>
              <a:ext cx="225360" cy="457200"/>
              <a:chOff x="1754280" y="2871720"/>
              <a:chExt cx="225360" cy="457200"/>
            </a:xfrm>
          </p:grpSpPr>
          <p:sp>
            <p:nvSpPr>
              <p:cNvPr id="830" name=""/>
              <p:cNvSpPr/>
              <p:nvPr/>
            </p:nvSpPr>
            <p:spPr>
              <a:xfrm>
                <a:off x="1754280" y="28717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819440" y="30067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892160" y="30067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805040" y="31989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1297080" y="3100320"/>
              <a:ext cx="225360" cy="457200"/>
              <a:chOff x="1297080" y="3100320"/>
              <a:chExt cx="225360" cy="457200"/>
            </a:xfrm>
          </p:grpSpPr>
          <p:sp>
            <p:nvSpPr>
              <p:cNvPr id="835" name=""/>
              <p:cNvSpPr/>
              <p:nvPr/>
            </p:nvSpPr>
            <p:spPr>
              <a:xfrm>
                <a:off x="1297080" y="31003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362240" y="32353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434960" y="32353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347840" y="34275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9" name=""/>
          <p:cNvGrpSpPr/>
          <p:nvPr/>
        </p:nvGrpSpPr>
        <p:grpSpPr>
          <a:xfrm>
            <a:off x="1828800" y="5029200"/>
            <a:ext cx="1752480" cy="1295280"/>
            <a:chOff x="1828800" y="5029200"/>
            <a:chExt cx="1752480" cy="1295280"/>
          </a:xfrm>
        </p:grpSpPr>
        <p:sp>
          <p:nvSpPr>
            <p:cNvPr id="840" name=""/>
            <p:cNvSpPr/>
            <p:nvPr/>
          </p:nvSpPr>
          <p:spPr>
            <a:xfrm>
              <a:off x="2057400" y="58165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96920" y="53103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28800" y="50292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2843280" y="540072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241720" y="55134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363760" y="575748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3049560" y="5079960"/>
              <a:ext cx="225360" cy="457200"/>
              <a:chOff x="3049560" y="5079960"/>
              <a:chExt cx="225360" cy="457200"/>
            </a:xfrm>
          </p:grpSpPr>
          <p:sp>
            <p:nvSpPr>
              <p:cNvPr id="847" name=""/>
              <p:cNvSpPr/>
              <p:nvPr/>
            </p:nvSpPr>
            <p:spPr>
              <a:xfrm>
                <a:off x="3049560" y="5079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1292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86000" y="5214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00320" y="5407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2592360" y="5308560"/>
              <a:ext cx="225360" cy="457200"/>
              <a:chOff x="2592360" y="5308560"/>
              <a:chExt cx="225360" cy="457200"/>
            </a:xfrm>
          </p:grpSpPr>
          <p:sp>
            <p:nvSpPr>
              <p:cNvPr id="852" name=""/>
              <p:cNvSpPr/>
              <p:nvPr/>
            </p:nvSpPr>
            <p:spPr>
              <a:xfrm>
                <a:off x="2592360" y="53085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65572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728800" y="54435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643120" y="56358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6" name=""/>
          <p:cNvGrpSpPr/>
          <p:nvPr/>
        </p:nvGrpSpPr>
        <p:grpSpPr>
          <a:xfrm>
            <a:off x="3657600" y="3506760"/>
            <a:ext cx="1752480" cy="1295280"/>
            <a:chOff x="3657600" y="3506760"/>
            <a:chExt cx="1752480" cy="1295280"/>
          </a:xfrm>
        </p:grpSpPr>
        <p:sp>
          <p:nvSpPr>
            <p:cNvPr id="857" name=""/>
            <p:cNvSpPr/>
            <p:nvPr/>
          </p:nvSpPr>
          <p:spPr>
            <a:xfrm>
              <a:off x="3886200" y="429408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25720" y="378612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350676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4672080" y="387828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070520" y="3989520"/>
              <a:ext cx="217440" cy="12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192560" y="423360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4878360" y="3557520"/>
              <a:ext cx="225360" cy="457200"/>
              <a:chOff x="4878360" y="3557520"/>
              <a:chExt cx="225360" cy="457200"/>
            </a:xfrm>
          </p:grpSpPr>
          <p:sp>
            <p:nvSpPr>
              <p:cNvPr id="864" name=""/>
              <p:cNvSpPr/>
              <p:nvPr/>
            </p:nvSpPr>
            <p:spPr>
              <a:xfrm>
                <a:off x="4878360" y="35575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94172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014800" y="36925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929120" y="38847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4421160" y="3786120"/>
              <a:ext cx="225360" cy="457200"/>
              <a:chOff x="4421160" y="3786120"/>
              <a:chExt cx="225360" cy="457200"/>
            </a:xfrm>
          </p:grpSpPr>
          <p:sp>
            <p:nvSpPr>
              <p:cNvPr id="869" name=""/>
              <p:cNvSpPr/>
              <p:nvPr/>
            </p:nvSpPr>
            <p:spPr>
              <a:xfrm>
                <a:off x="4421160" y="378612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48452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557600" y="392112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471920" y="411336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3" name=""/>
          <p:cNvGrpSpPr/>
          <p:nvPr/>
        </p:nvGrpSpPr>
        <p:grpSpPr>
          <a:xfrm>
            <a:off x="6478560" y="2514600"/>
            <a:ext cx="1752480" cy="1295280"/>
            <a:chOff x="6478560" y="2514600"/>
            <a:chExt cx="1752480" cy="1295280"/>
          </a:xfrm>
        </p:grpSpPr>
        <p:sp>
          <p:nvSpPr>
            <p:cNvPr id="874" name=""/>
            <p:cNvSpPr/>
            <p:nvPr/>
          </p:nvSpPr>
          <p:spPr>
            <a:xfrm>
              <a:off x="6707160" y="3301920"/>
              <a:ext cx="290520" cy="4082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645240" y="2795760"/>
              <a:ext cx="290520" cy="407880"/>
            </a:xfrm>
            <a:prstGeom prst="can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78560" y="2514600"/>
              <a:ext cx="1752480" cy="1295280"/>
            </a:xfrm>
            <a:custGeom>
              <a:avLst/>
              <a:gdLst/>
              <a:ahLst/>
              <a:rect l="l" t="t" r="r" b="b"/>
              <a:pathLst>
                <a:path w="3489" h="2443">
                  <a:moveTo>
                    <a:pt x="387" y="24"/>
                  </a:moveTo>
                  <a:cubicBezTo>
                    <a:pt x="263" y="46"/>
                    <a:pt x="151" y="98"/>
                    <a:pt x="49" y="172"/>
                  </a:cubicBezTo>
                  <a:cubicBezTo>
                    <a:pt x="27" y="218"/>
                    <a:pt x="12" y="263"/>
                    <a:pt x="0" y="312"/>
                  </a:cubicBezTo>
                  <a:cubicBezTo>
                    <a:pt x="13" y="441"/>
                    <a:pt x="19" y="570"/>
                    <a:pt x="33" y="699"/>
                  </a:cubicBezTo>
                  <a:cubicBezTo>
                    <a:pt x="38" y="943"/>
                    <a:pt x="39" y="1187"/>
                    <a:pt x="49" y="1431"/>
                  </a:cubicBezTo>
                  <a:cubicBezTo>
                    <a:pt x="50" y="1455"/>
                    <a:pt x="72" y="1492"/>
                    <a:pt x="82" y="1514"/>
                  </a:cubicBezTo>
                  <a:cubicBezTo>
                    <a:pt x="91" y="1535"/>
                    <a:pt x="115" y="1611"/>
                    <a:pt x="115" y="1612"/>
                  </a:cubicBezTo>
                  <a:cubicBezTo>
                    <a:pt x="143" y="1699"/>
                    <a:pt x="226" y="1762"/>
                    <a:pt x="255" y="1851"/>
                  </a:cubicBezTo>
                  <a:cubicBezTo>
                    <a:pt x="258" y="1914"/>
                    <a:pt x="256" y="1977"/>
                    <a:pt x="263" y="2040"/>
                  </a:cubicBezTo>
                  <a:cubicBezTo>
                    <a:pt x="268" y="2088"/>
                    <a:pt x="278" y="2070"/>
                    <a:pt x="296" y="2098"/>
                  </a:cubicBezTo>
                  <a:cubicBezTo>
                    <a:pt x="337" y="2161"/>
                    <a:pt x="370" y="2200"/>
                    <a:pt x="444" y="2230"/>
                  </a:cubicBezTo>
                  <a:cubicBezTo>
                    <a:pt x="485" y="2269"/>
                    <a:pt x="454" y="2243"/>
                    <a:pt x="551" y="2287"/>
                  </a:cubicBezTo>
                  <a:cubicBezTo>
                    <a:pt x="630" y="2323"/>
                    <a:pt x="721" y="2349"/>
                    <a:pt x="807" y="2361"/>
                  </a:cubicBezTo>
                  <a:cubicBezTo>
                    <a:pt x="857" y="2387"/>
                    <a:pt x="911" y="2392"/>
                    <a:pt x="963" y="2411"/>
                  </a:cubicBezTo>
                  <a:cubicBezTo>
                    <a:pt x="974" y="2415"/>
                    <a:pt x="984" y="2424"/>
                    <a:pt x="996" y="2427"/>
                  </a:cubicBezTo>
                  <a:cubicBezTo>
                    <a:pt x="1023" y="2434"/>
                    <a:pt x="1078" y="2443"/>
                    <a:pt x="1078" y="2443"/>
                  </a:cubicBezTo>
                  <a:cubicBezTo>
                    <a:pt x="1221" y="2432"/>
                    <a:pt x="1354" y="2402"/>
                    <a:pt x="1498" y="2386"/>
                  </a:cubicBezTo>
                  <a:cubicBezTo>
                    <a:pt x="1538" y="2373"/>
                    <a:pt x="1574" y="2351"/>
                    <a:pt x="1613" y="2337"/>
                  </a:cubicBezTo>
                  <a:cubicBezTo>
                    <a:pt x="1768" y="2280"/>
                    <a:pt x="1930" y="2221"/>
                    <a:pt x="2090" y="2180"/>
                  </a:cubicBezTo>
                  <a:cubicBezTo>
                    <a:pt x="2182" y="2120"/>
                    <a:pt x="2096" y="2169"/>
                    <a:pt x="2197" y="2131"/>
                  </a:cubicBezTo>
                  <a:cubicBezTo>
                    <a:pt x="2370" y="2066"/>
                    <a:pt x="2546" y="2006"/>
                    <a:pt x="2716" y="1933"/>
                  </a:cubicBezTo>
                  <a:cubicBezTo>
                    <a:pt x="2741" y="1908"/>
                    <a:pt x="2769" y="1887"/>
                    <a:pt x="2790" y="1859"/>
                  </a:cubicBezTo>
                  <a:cubicBezTo>
                    <a:pt x="2806" y="1837"/>
                    <a:pt x="2819" y="1812"/>
                    <a:pt x="2839" y="1793"/>
                  </a:cubicBezTo>
                  <a:cubicBezTo>
                    <a:pt x="2861" y="1771"/>
                    <a:pt x="2905" y="1728"/>
                    <a:pt x="2905" y="1728"/>
                  </a:cubicBezTo>
                  <a:cubicBezTo>
                    <a:pt x="2938" y="1659"/>
                    <a:pt x="2902" y="1729"/>
                    <a:pt x="2971" y="1629"/>
                  </a:cubicBezTo>
                  <a:cubicBezTo>
                    <a:pt x="2997" y="1592"/>
                    <a:pt x="3009" y="1551"/>
                    <a:pt x="3036" y="1514"/>
                  </a:cubicBezTo>
                  <a:cubicBezTo>
                    <a:pt x="3042" y="1484"/>
                    <a:pt x="3047" y="1453"/>
                    <a:pt x="3053" y="1423"/>
                  </a:cubicBezTo>
                  <a:cubicBezTo>
                    <a:pt x="3059" y="1391"/>
                    <a:pt x="3092" y="1372"/>
                    <a:pt x="3111" y="1349"/>
                  </a:cubicBezTo>
                  <a:cubicBezTo>
                    <a:pt x="3151" y="1301"/>
                    <a:pt x="3193" y="1249"/>
                    <a:pt x="3242" y="1209"/>
                  </a:cubicBezTo>
                  <a:cubicBezTo>
                    <a:pt x="3278" y="1180"/>
                    <a:pt x="3317" y="1159"/>
                    <a:pt x="3349" y="1127"/>
                  </a:cubicBezTo>
                  <a:cubicBezTo>
                    <a:pt x="3370" y="1061"/>
                    <a:pt x="3390" y="994"/>
                    <a:pt x="3415" y="929"/>
                  </a:cubicBezTo>
                  <a:cubicBezTo>
                    <a:pt x="3424" y="905"/>
                    <a:pt x="3440" y="855"/>
                    <a:pt x="3440" y="855"/>
                  </a:cubicBezTo>
                  <a:cubicBezTo>
                    <a:pt x="3446" y="758"/>
                    <a:pt x="3453" y="655"/>
                    <a:pt x="3464" y="559"/>
                  </a:cubicBezTo>
                  <a:cubicBezTo>
                    <a:pt x="3468" y="528"/>
                    <a:pt x="3489" y="469"/>
                    <a:pt x="3489" y="469"/>
                  </a:cubicBezTo>
                  <a:cubicBezTo>
                    <a:pt x="3466" y="337"/>
                    <a:pt x="3410" y="209"/>
                    <a:pt x="3267" y="181"/>
                  </a:cubicBezTo>
                  <a:cubicBezTo>
                    <a:pt x="3236" y="166"/>
                    <a:pt x="3209" y="142"/>
                    <a:pt x="3176" y="131"/>
                  </a:cubicBezTo>
                  <a:cubicBezTo>
                    <a:pt x="3160" y="126"/>
                    <a:pt x="3143" y="127"/>
                    <a:pt x="3127" y="123"/>
                  </a:cubicBezTo>
                  <a:cubicBezTo>
                    <a:pt x="3048" y="101"/>
                    <a:pt x="2974" y="68"/>
                    <a:pt x="2897" y="41"/>
                  </a:cubicBezTo>
                  <a:cubicBezTo>
                    <a:pt x="2842" y="21"/>
                    <a:pt x="2781" y="12"/>
                    <a:pt x="2724" y="0"/>
                  </a:cubicBezTo>
                  <a:cubicBezTo>
                    <a:pt x="2122" y="8"/>
                    <a:pt x="1525" y="31"/>
                    <a:pt x="922" y="41"/>
                  </a:cubicBezTo>
                  <a:cubicBezTo>
                    <a:pt x="391" y="33"/>
                    <a:pt x="512" y="164"/>
                    <a:pt x="387" y="24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844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7493040" y="2886120"/>
              <a:ext cx="120600" cy="146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89680" y="2998800"/>
              <a:ext cx="217440" cy="12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7013520" y="3242880"/>
              <a:ext cx="168480" cy="1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7697880" y="2565360"/>
              <a:ext cx="225360" cy="457200"/>
              <a:chOff x="7697880" y="2565360"/>
              <a:chExt cx="225360" cy="457200"/>
            </a:xfrm>
          </p:grpSpPr>
          <p:sp>
            <p:nvSpPr>
              <p:cNvPr id="881" name=""/>
              <p:cNvSpPr/>
              <p:nvPr/>
            </p:nvSpPr>
            <p:spPr>
              <a:xfrm>
                <a:off x="7697880" y="25653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763040" y="27003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835760" y="27003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48640" y="28926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7240680" y="2793960"/>
              <a:ext cx="225360" cy="457200"/>
              <a:chOff x="7240680" y="2793960"/>
              <a:chExt cx="225360" cy="457200"/>
            </a:xfrm>
          </p:grpSpPr>
          <p:sp>
            <p:nvSpPr>
              <p:cNvPr id="886" name=""/>
              <p:cNvSpPr/>
              <p:nvPr/>
            </p:nvSpPr>
            <p:spPr>
              <a:xfrm>
                <a:off x="7240680" y="2793960"/>
                <a:ext cx="225360" cy="457200"/>
              </a:xfrm>
              <a:custGeom>
                <a:avLst/>
                <a:gdLst/>
                <a:ahLst/>
                <a:rect l="l" t="t" r="r" b="b"/>
                <a:pathLst>
                  <a:path w="1263" h="1474">
                    <a:moveTo>
                      <a:pt x="631" y="0"/>
                    </a:moveTo>
                    <a:cubicBezTo>
                      <a:pt x="989" y="0"/>
                      <a:pt x="1262" y="319"/>
                      <a:pt x="1262" y="737"/>
                    </a:cubicBezTo>
                    <a:cubicBezTo>
                      <a:pt x="1262" y="1154"/>
                      <a:pt x="989" y="1473"/>
                      <a:pt x="631" y="1473"/>
                    </a:cubicBezTo>
                    <a:cubicBezTo>
                      <a:pt x="273" y="1473"/>
                      <a:pt x="0" y="1154"/>
                      <a:pt x="0" y="737"/>
                    </a:cubicBezTo>
                    <a:cubicBezTo>
                      <a:pt x="0" y="319"/>
                      <a:pt x="273" y="0"/>
                      <a:pt x="631" y="0"/>
                    </a:cubicBezTo>
                    <a:lnTo>
                      <a:pt x="63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305840" y="292896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8" y="0"/>
                    </a:moveTo>
                    <a:cubicBezTo>
                      <a:pt x="107" y="0"/>
                      <a:pt x="135" y="34"/>
                      <a:pt x="135" y="81"/>
                    </a:cubicBezTo>
                    <a:cubicBezTo>
                      <a:pt x="135" y="126"/>
                      <a:pt x="107" y="161"/>
                      <a:pt x="68" y="161"/>
                    </a:cubicBezTo>
                    <a:cubicBezTo>
                      <a:pt x="29" y="161"/>
                      <a:pt x="0" y="126"/>
                      <a:pt x="0" y="81"/>
                    </a:cubicBezTo>
                    <a:cubicBezTo>
                      <a:pt x="0" y="34"/>
                      <a:pt x="29" y="0"/>
                      <a:pt x="68" y="0"/>
                    </a:cubicBezTo>
                    <a:lnTo>
                      <a:pt x="68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378560" y="2928960"/>
                <a:ext cx="25560" cy="507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66" y="0"/>
                    </a:moveTo>
                    <a:cubicBezTo>
                      <a:pt x="105" y="0"/>
                      <a:pt x="135" y="34"/>
                      <a:pt x="135" y="81"/>
                    </a:cubicBezTo>
                    <a:cubicBezTo>
                      <a:pt x="135" y="126"/>
                      <a:pt x="105" y="161"/>
                      <a:pt x="66" y="161"/>
                    </a:cubicBezTo>
                    <a:cubicBezTo>
                      <a:pt x="27" y="161"/>
                      <a:pt x="0" y="126"/>
                      <a:pt x="0" y="81"/>
                    </a:cubicBezTo>
                    <a:cubicBezTo>
                      <a:pt x="0" y="34"/>
                      <a:pt x="27" y="0"/>
                      <a:pt x="66" y="0"/>
                    </a:cubicBezTo>
                    <a:lnTo>
                      <a:pt x="6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291440" y="3121200"/>
                <a:ext cx="123840" cy="42840"/>
              </a:xfrm>
              <a:custGeom>
                <a:avLst/>
                <a:gdLst/>
                <a:ahLst/>
                <a:rect l="l" t="t" r="r" b="b"/>
                <a:pathLst>
                  <a:path w="699" h="141">
                    <a:moveTo>
                      <a:pt x="0" y="0"/>
                    </a:moveTo>
                    <a:cubicBezTo>
                      <a:pt x="222" y="140"/>
                      <a:pt x="476" y="140"/>
                      <a:pt x="69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rkvara evolutsiooni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014480"/>
            <a:ext cx="7848720" cy="57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naloogiline mehhanism meemide evolutsiooni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hepealne iseseisev elu arvutit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de: häkkimistarkvara evolutsio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ternet kui tarkvara-olendite ühiskondade hul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760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arhistlikud teesid: inimene ja ühiskon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6640" y="988920"/>
            <a:ext cx="7848720" cy="58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d on suur omaette lo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imene on ühiskonna jaoks tähtsusetu rakk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d vahetab inimesed arvutite vastu sujuvalt välj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olutsiooni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imese kui liigi evolutsioon on pidurdun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na evolutsioon on kiirenenu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kk-inimese manipuleerimise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imene on robot, mis on programmeeritud ühiskonnale allum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motsioonid on hoovad, millega inimesi ühiskonna poolt manipuleeritak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-3265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namus levinud põhimõtteid ja eelistusi on ühiskonna poolt ettesöödetud pettu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ngulaarsushüpotees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8080" y="1014480"/>
            <a:ext cx="7848720" cy="59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imetuse idee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Techno-Rapture. A black hole in the Extropian worldview whose gravity is so intense that no light can be shed on what lies beyond it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Hüpotees ise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fty thousand years ago with the rise of Homo sapiens sapien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n thousand years ago with the invention of civilization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ve hundred years ago with the invention of the printing pres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fty years ago with the invention of the comput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n less than thirty years, it will en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ingulaarsushüpotees pildi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014480"/>
            <a:ext cx="7848720" cy="57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a kiirenev kasv viib paratamatult järsu murranguni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2954160" y="2535120"/>
            <a:ext cx="3189600" cy="3473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temaatika ana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 on triviaalsed:  0,  | ,  ||,   |||,   ||||,    |||||,   ..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e liitmine on ka päris lihtne teh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est saab aga ehitada murrud, reaalarvud, kvaternioonid, ja mistahes muud algebralised struktuur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e kohta käivate teoreemide lahendamiseks ei saa olla algoritmi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ega matemaatikat ei saagi lõplikult aksiomatiseerid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äisarvude matemaatika korrektsust ei saagi tõestada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useks on alati tõestusteta usku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ida keerulisemaid tulemusi tahame, seda rohkem peame uskum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htsast matemaatikast saab ehitada kuitahes keerulise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atemaatika ning lõpmatuse struktuur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3840"/>
                <a:tab algn="l" pos="581040"/>
                <a:tab algn="l" pos="1038240"/>
                <a:tab algn="l" pos="1495440"/>
                <a:tab algn="l" pos="1952640"/>
                <a:tab algn="l" pos="2409840"/>
                <a:tab algn="l" pos="2867040"/>
                <a:tab algn="l" pos="3324240"/>
                <a:tab algn="l" pos="3781440"/>
                <a:tab algn="l" pos="4238640"/>
                <a:tab algn="l" pos="4695840"/>
                <a:tab algn="l" pos="5153040"/>
                <a:tab algn="l" pos="5610240"/>
                <a:tab algn="l" pos="6067440"/>
                <a:tab algn="l" pos="6524640"/>
                <a:tab algn="l" pos="6981840"/>
                <a:tab algn="l" pos="7439040"/>
                <a:tab algn="l" pos="7896240"/>
                <a:tab algn="l" pos="8353440"/>
                <a:tab algn="l" pos="8810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tõestatud, et teatud punktis läheb lõpmatuse struktuu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3840"/>
                <a:tab algn="l" pos="581040"/>
                <a:tab algn="l" pos="1038240"/>
                <a:tab algn="l" pos="1495440"/>
                <a:tab algn="l" pos="1952640"/>
                <a:tab algn="l" pos="2409840"/>
                <a:tab algn="l" pos="2867040"/>
                <a:tab algn="l" pos="3324240"/>
                <a:tab algn="l" pos="3781440"/>
                <a:tab algn="l" pos="4238640"/>
                <a:tab algn="l" pos="4695840"/>
                <a:tab algn="l" pos="5153040"/>
                <a:tab algn="l" pos="5610240"/>
                <a:tab algn="l" pos="6067440"/>
                <a:tab algn="l" pos="6524640"/>
                <a:tab algn="l" pos="6981840"/>
                <a:tab algn="l" pos="7439040"/>
                <a:tab algn="l" pos="7896240"/>
                <a:tab algn="l" pos="8353440"/>
                <a:tab algn="l" pos="8810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irjeldamatult keeruliseks, otseses mõttes: ei saagi kirjeldada (mitte lihtsalt, et ei osata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286160" y="5035680"/>
            <a:ext cx="1800" cy="104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299120" y="4510080"/>
            <a:ext cx="62208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715920" y="4606560"/>
            <a:ext cx="55404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760920" y="4462200"/>
            <a:ext cx="58572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265280" y="4460400"/>
            <a:ext cx="577800" cy="1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4632120" y="4106880"/>
            <a:ext cx="26028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921200" y="4363920"/>
            <a:ext cx="62244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749760" y="4484520"/>
            <a:ext cx="13500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057480" y="4352400"/>
            <a:ext cx="65088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114720" y="4327200"/>
            <a:ext cx="1001520" cy="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665080" y="3949560"/>
            <a:ext cx="46836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519880" y="3911760"/>
            <a:ext cx="96840" cy="46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495760" y="3985920"/>
            <a:ext cx="58608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95720" y="3862440"/>
            <a:ext cx="56520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689360" y="3765240"/>
            <a:ext cx="6048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765600" y="3557160"/>
            <a:ext cx="357120" cy="32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738680" y="3338640"/>
            <a:ext cx="731880" cy="44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516200" y="5873760"/>
            <a:ext cx="3918240" cy="296640"/>
            <a:chOff x="4516200" y="5873760"/>
            <a:chExt cx="3918240" cy="296640"/>
          </a:xfrm>
        </p:grpSpPr>
        <p:sp>
          <p:nvSpPr>
            <p:cNvPr id="79" name=""/>
            <p:cNvSpPr/>
            <p:nvPr/>
          </p:nvSpPr>
          <p:spPr>
            <a:xfrm>
              <a:off x="4518000" y="5873760"/>
              <a:ext cx="3421080" cy="266760"/>
            </a:xfrm>
            <a:prstGeom prst="roundRect">
              <a:avLst>
                <a:gd name="adj" fmla="val 5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6200" y="5873760"/>
              <a:ext cx="3918240" cy="296640"/>
            </a:xfrm>
            <a:prstGeom prst="roundRect">
              <a:avLst>
                <a:gd name="adj" fmla="val 5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Algpunkt: täisarvude lõpm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538520" y="5067360"/>
            <a:ext cx="4005000" cy="296640"/>
            <a:chOff x="4538520" y="5067360"/>
            <a:chExt cx="4005000" cy="296640"/>
          </a:xfrm>
        </p:grpSpPr>
        <p:sp>
          <p:nvSpPr>
            <p:cNvPr id="82" name=""/>
            <p:cNvSpPr/>
            <p:nvPr/>
          </p:nvSpPr>
          <p:spPr>
            <a:xfrm>
              <a:off x="4543560" y="5067360"/>
              <a:ext cx="3487680" cy="266760"/>
            </a:xfrm>
            <a:prstGeom prst="roundRect">
              <a:avLst>
                <a:gd name="adj" fmla="val 5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38520" y="5067360"/>
              <a:ext cx="4005000" cy="296640"/>
            </a:xfrm>
            <a:prstGeom prst="roundRect">
              <a:avLst>
                <a:gd name="adj" fmla="val 5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unkt 2: Reaalarvude lõpm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994680" y="2967120"/>
            <a:ext cx="2668320" cy="887760"/>
            <a:chOff x="994680" y="2967120"/>
            <a:chExt cx="2668320" cy="887760"/>
          </a:xfrm>
        </p:grpSpPr>
        <p:sp>
          <p:nvSpPr>
            <p:cNvPr id="85" name=""/>
            <p:cNvSpPr/>
            <p:nvPr/>
          </p:nvSpPr>
          <p:spPr>
            <a:xfrm>
              <a:off x="1001880" y="2967120"/>
              <a:ext cx="2363760" cy="795240"/>
            </a:xfrm>
            <a:prstGeom prst="roundRect">
              <a:avLst>
                <a:gd name="adj" fmla="val 19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94680" y="2967120"/>
              <a:ext cx="2668320" cy="887760"/>
            </a:xfrm>
            <a:prstGeom prst="roundRect">
              <a:avLst>
                <a:gd name="adj" fmla="val 19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Lõpmatuse struktu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läheb kasv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üha keerukamaks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928800" y="1441440"/>
            <a:ext cx="6878520" cy="795240"/>
            <a:chOff x="928800" y="1441440"/>
            <a:chExt cx="6878520" cy="795240"/>
          </a:xfrm>
        </p:grpSpPr>
        <p:sp>
          <p:nvSpPr>
            <p:cNvPr id="88" name=""/>
            <p:cNvSpPr/>
            <p:nvPr/>
          </p:nvSpPr>
          <p:spPr>
            <a:xfrm>
              <a:off x="928800" y="1441440"/>
              <a:ext cx="6878520" cy="795240"/>
            </a:xfrm>
            <a:prstGeom prst="roundRect">
              <a:avLst>
                <a:gd name="adj" fmla="val 19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28800" y="1441440"/>
              <a:ext cx="6878520" cy="795240"/>
            </a:xfrm>
            <a:prstGeom prst="roundRect">
              <a:avLst>
                <a:gd name="adj" fmla="val 19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en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een on enese-kopeerimismasina kopeerimisprogramm ehk ehitusjooni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 võime vabalt mõelda nii, et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imed, inimesed ja loomad on geenide loodud robotid, mille ainus eesmärk on geene kaitsta ja edasi kanda: tagada geenidele hea keskkon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Dawkins: “selfish gene”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aimed on hästikindlustatud, staatilised kaitserobot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oomad on liikuvad, ohtlikust olukorrast põgeneda suutvad roboti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95440" y="1623960"/>
            <a:ext cx="1546200" cy="1697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011480" y="1405080"/>
            <a:ext cx="836640" cy="928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011480" y="2320920"/>
            <a:ext cx="836640" cy="928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830920" y="1454040"/>
            <a:ext cx="568440" cy="511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745240" y="2041560"/>
            <a:ext cx="568080" cy="511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5794200" y="2577960"/>
            <a:ext cx="568440" cy="511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5745240" y="2041560"/>
            <a:ext cx="568080" cy="511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965920" y="3067200"/>
            <a:ext cx="568080" cy="511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Geenid ja meem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97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 on idee (eelistus, teadmine, viisijupp, programm vms), mida inimesed edasi paljundavad (räägivad teistele ka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ide looduslik valik (Dawkins, Blackmore)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namust meeme edasi ei räägita, nad surevad välj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asulikke” meeme räägitakse edasi: nad paljunev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ju ja kommunikatsiooni mahud on piiratud: meemid võistlevad nende ressursside päras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 on samuti isepaljunev koopiamasin, nagu ka geen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 elab ainult mõistuslikus aju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 kasutab aju nagu materjali (parasiit?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 on teine teadaolev isepaljunev “asi” peale gee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emid saavad eksisteerida vaid ühiskonnas (karjas, grupis ...) kus indiviidid neid edasi kommunikeeriv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otsiobi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1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ame gruppi/karja/ühiskonda  evolutsioo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atenurgas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hiskond kui omaette loom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aakeral on palju ühiskondi: nad konkureerivad üksteiseg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volutsioonipsühholoogi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632880"/>
            <a:ext cx="7848720" cy="62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lgitame karjaliikmete psühholoogiat puhtal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volutsioonilisest vaatenurgast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süühika töötab mingil moel just seepärast, et see annab eelise järglaste saamisel ja evolutsiooni kiirendamisel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301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äited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aiste iluideaali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ma laste ja sugulaste armastami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truis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õivamoe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0080" indent="-2728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Jne jn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67400" y="3932280"/>
            <a:ext cx="1482840" cy="2341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